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5.jpeg" ContentType="image/jpeg"/>
  <Override PartName="/ppt/media/image10.wmf" ContentType="image/x-wmf"/>
  <Override PartName="/ppt/media/image4.wmf" ContentType="image/x-wmf"/>
  <Override PartName="/ppt/media/image19.jpeg" ContentType="image/jpeg"/>
  <Override PartName="/ppt/media/image6.wmf" ContentType="image/x-wmf"/>
  <Override PartName="/ppt/media/image7.png" ContentType="image/png"/>
  <Override PartName="/ppt/media/image11.wmf" ContentType="image/x-wmf"/>
  <Override PartName="/ppt/media/image26.png" ContentType="image/png"/>
  <Override PartName="/ppt/media/image27.png" ContentType="image/png"/>
  <Override PartName="/ppt/media/image12.wmf" ContentType="image/x-wmf"/>
  <Override PartName="/ppt/media/image9.png" ContentType="image/png"/>
  <Override PartName="/ppt/media/image8.wmf" ContentType="image/x-wmf"/>
  <Override PartName="/ppt/media/image13.png" ContentType="image/png"/>
  <Override PartName="/ppt/media/image2.jpeg" ContentType="image/jpeg"/>
  <Override PartName="/ppt/media/image30.png" ContentType="image/png"/>
  <Override PartName="/ppt/media/image3.jpeg" ContentType="image/jpeg"/>
  <Override PartName="/ppt/media/image1.png" ContentType="image/png"/>
  <Override PartName="/ppt/media/image14.wmf" ContentType="image/x-wmf"/>
  <Override PartName="/ppt/media/image29.png" ContentType="image/png"/>
  <Override PartName="/ppt/media/image15.jpeg" ContentType="image/jpeg"/>
  <Override PartName="/ppt/media/image5.wmf" ContentType="image/x-wmf"/>
  <Override PartName="/ppt/media/image16.jpeg" ContentType="image/jpeg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22.wmf" ContentType="image/x-wmf"/>
  <Override PartName="/ppt/media/image23.wmf" ContentType="image/x-wmf"/>
  <Override PartName="/ppt/media/image24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B87B-BF59-4EE6-A494-0786082389F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45F092-731B-402D-A20B-63B059AC9A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7C4D2C-5EEF-4A2D-A534-5D8EF741D7A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F7D6-D59B-4D94-85FC-C9130233C7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2F6FCA-E7EF-40E2-A2A2-A1F26B7456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8C3B07-CDF1-4467-928F-C0111C192A8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1743EA-55AB-4020-8996-18B0588DE0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587E4F-AB03-49FD-97B4-EEC4A794A3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35DCBA-56CB-4623-B2AF-9B333AF92B1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D2B709-E906-412C-B421-52E37EF379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26C4C8-7A23-411B-8719-A8D540CE0D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51588A-269D-4AA7-B906-4FAB306790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26617"/>
                </a:gs>
                <a:gs pos="50000">
                  <a:srgbClr val="2f8b20"/>
                </a:gs>
                <a:gs pos="100000">
                  <a:srgbClr val="226617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8b20"/>
                </a:gs>
                <a:gs pos="50000">
                  <a:srgbClr val="ffffff"/>
                </a:gs>
                <a:gs pos="100000">
                  <a:srgbClr val="2f8b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8b2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04000" y="6400800"/>
            <a:ext cx="53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5da31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B8973D-5103-488F-9670-6BE89F6C3DAA}" type="slidenum">
              <a:rPr b="1" lang="fr-FR" sz="1400" spc="-1" strike="noStrike">
                <a:solidFill>
                  <a:srgbClr val="5da31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" action="ppaction://hlinkshowjump?jump=nextslide"/>
          </p:cNvPr>
          <p:cNvSpPr/>
          <p:nvPr/>
        </p:nvSpPr>
        <p:spPr>
          <a:xfrm>
            <a:off x="8748720" y="371628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" action="ppaction://hlinkshowjump?jump=previousslide"/>
          </p:cNvPr>
          <p:cNvSpPr/>
          <p:nvPr/>
        </p:nvSpPr>
        <p:spPr>
          <a:xfrm>
            <a:off x="8748720" y="292428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>
            <a:hlinkClick r:id="" action="ppaction://hlinkshowjump?jump=firstslide"/>
          </p:cNvPr>
          <p:cNvSpPr/>
          <p:nvPr/>
        </p:nvSpPr>
        <p:spPr>
          <a:xfrm>
            <a:off x="8748720" y="1773360"/>
            <a:ext cx="250920" cy="214200"/>
          </a:xfrm>
          <a:custGeom>
            <a:avLst/>
            <a:gdLst>
              <a:gd name="textAreaLeft" fmla="*/ 13680 w 250920"/>
              <a:gd name="textAreaRight" fmla="*/ 237240 w 2509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5297" h="21600">
                <a:moveTo>
                  <a:pt x="0" y="0"/>
                </a:moveTo>
                <a:lnTo>
                  <a:pt x="25297" y="0"/>
                </a:lnTo>
                <a:lnTo>
                  <a:pt x="25297" y="21600"/>
                </a:lnTo>
                <a:lnTo>
                  <a:pt x="0" y="21600"/>
                </a:lnTo>
                <a:close/>
              </a:path>
              <a:path fill="lightenLess" w="25297" h="21600">
                <a:moveTo>
                  <a:pt x="0" y="0"/>
                </a:moveTo>
                <a:lnTo>
                  <a:pt x="25297" y="0"/>
                </a:lnTo>
                <a:lnTo>
                  <a:pt x="23897" y="1400"/>
                </a:lnTo>
                <a:lnTo>
                  <a:pt x="1400" y="1400"/>
                </a:lnTo>
                <a:close/>
              </a:path>
              <a:path fill="darken" w="25297" h="21600">
                <a:moveTo>
                  <a:pt x="25297" y="0"/>
                </a:moveTo>
                <a:lnTo>
                  <a:pt x="25297" y="21600"/>
                </a:lnTo>
                <a:lnTo>
                  <a:pt x="23897" y="20200"/>
                </a:lnTo>
                <a:lnTo>
                  <a:pt x="23897" y="1400"/>
                </a:lnTo>
                <a:close/>
              </a:path>
              <a:path fill="darkenLess" w="25297" h="21600">
                <a:moveTo>
                  <a:pt x="25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97" y="20200"/>
                </a:lnTo>
                <a:close/>
              </a:path>
              <a:path fill="lighten" w="25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97" h="21600">
                <a:moveTo>
                  <a:pt x="12648" y="3837"/>
                </a:moveTo>
                <a:lnTo>
                  <a:pt x="15225" y="6448"/>
                </a:lnTo>
                <a:lnTo>
                  <a:pt x="15225" y="4707"/>
                </a:lnTo>
                <a:lnTo>
                  <a:pt x="17000" y="4707"/>
                </a:lnTo>
                <a:lnTo>
                  <a:pt x="17000" y="8224"/>
                </a:lnTo>
                <a:lnTo>
                  <a:pt x="19611" y="10800"/>
                </a:lnTo>
                <a:lnTo>
                  <a:pt x="17958" y="10800"/>
                </a:lnTo>
                <a:lnTo>
                  <a:pt x="17958" y="17989"/>
                </a:lnTo>
                <a:lnTo>
                  <a:pt x="7339" y="17989"/>
                </a:lnTo>
                <a:lnTo>
                  <a:pt x="7339" y="10800"/>
                </a:lnTo>
                <a:lnTo>
                  <a:pt x="5685" y="10800"/>
                </a:lnTo>
                <a:close/>
              </a:path>
              <a:path fill="darkenLess" w="25297" h="21600">
                <a:moveTo>
                  <a:pt x="15225" y="6448"/>
                </a:moveTo>
                <a:lnTo>
                  <a:pt x="15225" y="4707"/>
                </a:lnTo>
                <a:lnTo>
                  <a:pt x="17000" y="4707"/>
                </a:lnTo>
                <a:lnTo>
                  <a:pt x="17000" y="8224"/>
                </a:lnTo>
                <a:close/>
              </a:path>
              <a:path fill="darkenLess" w="25297" h="21600">
                <a:moveTo>
                  <a:pt x="11726" y="14299"/>
                </a:moveTo>
                <a:lnTo>
                  <a:pt x="13571" y="14299"/>
                </a:lnTo>
                <a:lnTo>
                  <a:pt x="13571" y="17989"/>
                </a:lnTo>
                <a:lnTo>
                  <a:pt x="17958" y="17989"/>
                </a:lnTo>
                <a:lnTo>
                  <a:pt x="17958" y="10800"/>
                </a:lnTo>
                <a:lnTo>
                  <a:pt x="7339" y="10800"/>
                </a:lnTo>
                <a:lnTo>
                  <a:pt x="7339" y="17989"/>
                </a:lnTo>
                <a:lnTo>
                  <a:pt x="11726" y="17989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 rot="5400000">
            <a:off x="8561160" y="2772000"/>
            <a:ext cx="93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f8b20"/>
                </a:solidFill>
                <a:latin typeface="Verdana"/>
              </a:rPr>
              <a:t>Précéd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 rot="5400000">
            <a:off x="8668440" y="3888720"/>
            <a:ext cx="71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f8b20"/>
                </a:solidFill>
                <a:latin typeface="Verdana"/>
              </a:rPr>
              <a:t>Suiv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8567640" y="155736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f8b20"/>
                </a:solidFill>
                <a:latin typeface="Verdana"/>
              </a:rPr>
              <a:t>Dép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8604360" y="5084640"/>
            <a:ext cx="64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f8b20"/>
                </a:solidFill>
                <a:latin typeface="Verdana"/>
              </a:rPr>
              <a:t>Pau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8675640" y="5661000"/>
            <a:ext cx="46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f8b20"/>
                </a:solidFill>
                <a:latin typeface="Verdana"/>
              </a:rPr>
              <a:t>Début de la nar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image" Target="../media/image13.png"/><Relationship Id="rId4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png"/><Relationship Id="rId3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5.jpeg"/><Relationship Id="rId3" Type="http://schemas.openxmlformats.org/officeDocument/2006/relationships/image" Target="../media/image16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adiocanada.ca/nouvelles/Politique/2006/01/25/002-audet-tps-rb.shtml" TargetMode="External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ommuniques.gouv.qc.ca/gouvqc/communiques/GPQF/Novembre2006/26/c8715.html" TargetMode="External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8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goraetudiante.org/" TargetMode="External"/><Relationship Id="rId3" Type="http://schemas.openxmlformats.org/officeDocument/2006/relationships/image" Target="../media/image29.png"/><Relationship Id="rId4" Type="http://schemas.openxmlformats.org/officeDocument/2006/relationships/hyperlink" Target="http://www.cadeul.ulaval.ca/" TargetMode="External"/><Relationship Id="rId5" Type="http://schemas.openxmlformats.org/officeDocument/2006/relationships/image" Target="../media/image30.png"/><Relationship Id="rId6" Type="http://schemas.openxmlformats.org/officeDocument/2006/relationships/hyperlink" Target="http://www.agoraetudiante.org/" TargetMode="External"/><Relationship Id="rId7" Type="http://schemas.openxmlformats.org/officeDocument/2006/relationships/hyperlink" Target="http://www.cadeul.com/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40280" y="298440"/>
            <a:ext cx="65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2f8b20"/>
                </a:solidFill>
                <a:latin typeface="Verdana"/>
              </a:rPr>
              <a:t>Les frais de scolarité au Québ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6408720" cy="42908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65964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Dégeler ?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Le Québec à la dérive</a:t>
            </a:r>
            <a:endParaRPr b="0" lang="en-US" sz="48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6227640" y="6381720"/>
            <a:ext cx="2232000" cy="3373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urée : 35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BC5CDE-C86B-462B-A795-1FB271A7345C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45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345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580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8b20"/>
                </a:solidFill>
                <a:latin typeface="Verdana"/>
              </a:rPr>
              <a:t>Le gel des frais de scolarité est une subvention aux riches.</a:t>
            </a:r>
            <a:br>
              <a:rPr sz="3600"/>
            </a:br>
            <a:endParaRPr b="0" lang="en-US" sz="36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4259160" y="411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41240" y="369720"/>
            <a:ext cx="236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MYTH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C289C-141E-463A-95D2-AC55F618C1AC}" type="slidenum">
              <a:t>10</a:t>
            </a:fld>
          </a:p>
        </p:txBody>
      </p:sp>
    </p:spTree>
  </p:cSld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5332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5332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0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467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8b20"/>
                </a:solidFill>
                <a:latin typeface="Verdana"/>
              </a:rPr>
              <a:t>Les riches ne « profitent » pas des frais de scolarité plus bas.</a:t>
            </a:r>
            <a:endParaRPr b="0" lang="en-US" sz="36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7775640" cy="3281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dit que les riches pourraient payer davantage, parce qu’ils en ont les moye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 riches subventionnent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éj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’éducation davantage que l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uvres : ils paient plu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’impôts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-2968200" y="2968200"/>
            <a:ext cx="6627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the 2 : </a:t>
            </a:r>
            <a:r>
              <a:rPr b="0" lang="en-US" sz="1800" spc="-1" strike="noStrike">
                <a:solidFill>
                  <a:srgbClr val="2f8b20"/>
                </a:solidFill>
                <a:latin typeface="Verdana"/>
              </a:rPr>
              <a:t>Le gel des frais : une subvention aux riches.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4419720"/>
            <a:ext cx="990360" cy="0"/>
          </a:xfrm>
          <a:prstGeom prst="line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E183A-0EDF-4545-97C7-126C91DA2286}" type="slidenum">
              <a:t>11</a:t>
            </a:fld>
          </a:p>
        </p:txBody>
      </p:sp>
    </p:spTree>
  </p:cSld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3351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3351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2057400"/>
            <a:ext cx="7086600" cy="3477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suffit de choisir s’il est plus avantageux de payer ses é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lorsque l’on est à l’éco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 s’endetta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 le biais des impô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rsque l’on est sur le marché du trav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-3201840" y="2896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the 2 : </a:t>
            </a:r>
            <a:r>
              <a:rPr b="0" lang="en-US" sz="1800" spc="-1" strike="noStrike">
                <a:solidFill>
                  <a:srgbClr val="2f8b20"/>
                </a:solidFill>
                <a:latin typeface="Verdana"/>
              </a:rPr>
              <a:t>Le gel des frais : une subvention aux ri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0464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2f8b20"/>
                </a:solidFill>
                <a:latin typeface="Verdana"/>
              </a:rPr>
              <a:t>L’impôt au lieu de l’endet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157A3D-DE7C-4795-B3C5-E00956A04F97}" type="slidenum">
              <a:t>12</a:t>
            </a:fld>
          </a:p>
        </p:txBody>
      </p:sp>
    </p:spTree>
  </p:cSld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739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739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2f8b20"/>
                </a:solidFill>
                <a:latin typeface="Verdana"/>
              </a:rPr>
              <a:t>Les pauvres ont autant de chances d’aller à l’université que les riches.</a:t>
            </a:r>
            <a:endParaRPr b="0" lang="en-US" sz="36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593520" y="293760"/>
            <a:ext cx="236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MYTH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1785E6-99ED-4150-B670-FFC7C8158859}" type="slidenum">
              <a:t>13</a:t>
            </a:fld>
          </a:p>
        </p:txBody>
      </p:sp>
    </p:spTree>
  </p:cSld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671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671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Les pauvres vont moins à l’université que les riches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-3420000" y="2962800"/>
            <a:ext cx="731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the 3 : </a:t>
            </a:r>
            <a:r>
              <a:rPr b="0" lang="en-US" sz="1800" spc="-1" strike="noStrike">
                <a:solidFill>
                  <a:srgbClr val="2f8b20"/>
                </a:solidFill>
                <a:latin typeface="Verdana"/>
              </a:rPr>
              <a:t>Les pauvres : autant de chances que les ri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2400" cy="4105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ÉALITÉ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 jeunes Canadiens de familles pauvres vont moins à l’université que ceux de familles rich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 % de l’écart est expliqué par les contraintes financiè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usser les frais ne rapprochera pas cet écart de l’objectif : 0 % 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6237360"/>
            <a:ext cx="806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Source : Frenette, Marc, </a:t>
            </a:r>
            <a:r>
              <a:rPr b="0" i="1" lang="fr-CA" sz="1200" spc="-1" strike="noStrike">
                <a:solidFill>
                  <a:srgbClr val="000000"/>
                </a:solidFill>
                <a:latin typeface="Verdana"/>
              </a:rPr>
              <a:t>Pourquoi les jeunes provenant de familles à plus faible revenu sont-ils moins susceptibles de fréquenter l'université? Analyse fondée sur les aptitudes aux études, l'influence des parents et les contraintes financières, </a:t>
            </a: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Statistique Canada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E26C0-C378-43E4-9121-0B9B272539F1}" type="slidenum">
              <a:t>14</a:t>
            </a:fld>
          </a:p>
        </p:txBody>
      </p:sp>
    </p:spTree>
  </p:cSld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4114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4114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4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rot="16200000">
            <a:off x="-3423240" y="2966040"/>
            <a:ext cx="73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the 3 : </a:t>
            </a:r>
            <a:r>
              <a:rPr b="0" lang="en-US" sz="1800" spc="-1" strike="noStrike">
                <a:solidFill>
                  <a:srgbClr val="2f8b20"/>
                </a:solidFill>
                <a:latin typeface="Verdana"/>
              </a:rPr>
              <a:t>Les pauvres : autant de chances que les ri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0"/>
            <a:ext cx="7010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900" spc="-1" strike="noStrike">
                <a:solidFill>
                  <a:srgbClr val="2f8b20"/>
                </a:solidFill>
                <a:latin typeface="Verdana"/>
              </a:rPr>
              <a:t>Les pauvres vont moins à l’université que les rich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87280" y="1773360"/>
            <a:ext cx="6810480" cy="491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99B3E-5F93-4521-9210-4B9AFC739BC4}" type="slidenum">
              <a:t>15</a:t>
            </a:fld>
          </a:p>
        </p:txBody>
      </p:sp>
    </p:spTree>
  </p:cSld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2740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2740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0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2f8b20"/>
                </a:solidFill>
                <a:latin typeface="Verdana"/>
              </a:rPr>
              <a:t>L’éducation co</a:t>
            </a:r>
            <a:r>
              <a:rPr b="0" lang="fr-CA" sz="3600" spc="-1" strike="noStrike">
                <a:solidFill>
                  <a:srgbClr val="2f8b20"/>
                </a:solidFill>
                <a:latin typeface="Verdana"/>
                <a:ea typeface="ＭＳ Ｐゴシック"/>
              </a:rPr>
              <a:t>ûte cher</a:t>
            </a:r>
            <a:br>
              <a:rPr sz="3600"/>
            </a:br>
            <a:r>
              <a:rPr b="0" lang="fr-CA" sz="3600" spc="-1" strike="noStrike">
                <a:solidFill>
                  <a:srgbClr val="2f8b20"/>
                </a:solidFill>
                <a:latin typeface="Verdana"/>
                <a:ea typeface="ＭＳ Ｐゴシック"/>
              </a:rPr>
              <a:t>à la société</a:t>
            </a:r>
            <a:endParaRPr b="0" lang="en-US" sz="36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30492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MYTHE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B474B6-3798-4EBF-8318-09578CF82D71}" type="slidenum">
              <a:t>16</a:t>
            </a:fld>
          </a:p>
        </p:txBody>
      </p:sp>
    </p:spTree>
  </p:cSld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598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598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f8b20"/>
                </a:solidFill>
                <a:latin typeface="Verdana"/>
              </a:rPr>
              <a:t>L’éducation : un investissement pour la société</a:t>
            </a:r>
            <a:endParaRPr b="0" lang="en-US" sz="38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Pour l’État, financer les études postsecondaires est un investissement très rent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Verdana"/>
              </a:rPr>
              <a:t>Chaque dollar investi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</a:rPr>
              <a:t> pour former un dipl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ômé du secondaire jusqu’au niveau universitaire </a:t>
            </a:r>
            <a:r>
              <a:rPr b="1" lang="fr-CA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apporte près de 8 $ au Québec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puisque l’État reçoit un montant beaucoup plus important en taxes et impô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6308640"/>
            <a:ext cx="52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640080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é à partir de : Demers, Marius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Bulletin statistique de l’éducation – La rentabilité du baccalauréa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Ministère de l’Éducation, du Loisir et du Sports, 200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0640" y="-114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-2286720" y="3654720"/>
            <a:ext cx="49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4 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’éducation coûte cher à la socié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760" y="-84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419720"/>
            <a:ext cx="990360" cy="0"/>
          </a:xfrm>
          <a:prstGeom prst="line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A5E3B5-F332-441B-8873-E2F6BB5BE206}" type="slidenum">
              <a:t>17</a:t>
            </a:fld>
          </a:p>
        </p:txBody>
      </p:sp>
    </p:spTree>
  </p:cSld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2066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2066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f8b20"/>
                </a:solidFill>
                <a:latin typeface="Verdana"/>
              </a:rPr>
              <a:t>L’éducation : un investissement pour la société</a:t>
            </a:r>
            <a:endParaRPr b="0" lang="en-US" sz="38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-2275560" y="3643920"/>
            <a:ext cx="49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4 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’éducation coûte cher à la socié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116000" y="1773360"/>
            <a:ext cx="6956280" cy="4989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9E55A-BA24-4246-B1E7-E668969B91DD}" type="slidenum">
              <a:t>18</a:t>
            </a:fld>
          </a:p>
        </p:txBody>
      </p:sp>
    </p:spTree>
  </p:cSld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3168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3168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Un gain pour tous</a:t>
            </a:r>
            <a:r>
              <a:rPr b="0" lang="en-US" sz="4200" spc="-1" strike="noStrike">
                <a:solidFill>
                  <a:srgbClr val="2f8b20"/>
                </a:solidFill>
                <a:latin typeface="Verdana"/>
              </a:rPr>
              <a:t> </a:t>
            </a:r>
            <a:endParaRPr b="0" lang="en-US" sz="42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rsque le gouvernement finance les études, c’est un gain pour tous les citoye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t investissement revient à la collectivit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2f8b20"/>
              </a:buClr>
              <a:buFont typeface="Times"/>
              <a:buChar char="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anté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2f8b20"/>
              </a:buClr>
              <a:buFont typeface="Times"/>
              <a:buChar char="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vironn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2f8b20"/>
              </a:buClr>
              <a:buFont typeface="Times"/>
              <a:buChar char="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ide aux entrepris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2f8b20"/>
              </a:buClr>
              <a:buFont typeface="Times"/>
              <a:buChar char="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out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2f8b20"/>
              </a:buClr>
              <a:buFont typeface="Times"/>
              <a:buChar char="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-2274120" y="3642120"/>
            <a:ext cx="49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4 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’éducation coûte cher à la socié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3392CF-DED5-475C-B08C-AFFF289770E2}" type="slidenum">
              <a:t>19</a:t>
            </a:fld>
          </a:p>
        </p:txBody>
      </p:sp>
    </p:spTree>
  </p:cSld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2434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2434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4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772400" cy="244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us croyons que le Québec, au minimum, doit mainten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LE GEL DES FRAIS DE SCOLARITÉ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201EB0-339F-488E-8302-F0EF3761A595}" type="slidenum">
              <a:t>2</a:t>
            </a:fld>
          </a:p>
        </p:txBody>
      </p:sp>
    </p:spTree>
  </p:cSld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505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505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Pourtant, l’État s’est désengagé…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066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uis le gel de 1994, le gouvernement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sidérable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édui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on effort de financement pour les universités, malgré une hausse constante du nombre d’étudiants universitai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-2275560" y="3643920"/>
            <a:ext cx="49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4 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’éducation coûte cher à la socié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140360" y="4076640"/>
            <a:ext cx="3809880" cy="2552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536D6A-4B5E-4023-B3C3-425D6D11C218}" type="slidenum">
              <a:t>20</a:t>
            </a:fld>
          </a:p>
        </p:txBody>
      </p:sp>
    </p:spTree>
  </p:cSld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107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107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0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Pourtant, l’État s’est désengagé…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-2286720" y="3654720"/>
            <a:ext cx="49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4 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’éducation coûte cher à la socié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7345440" cy="4703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900DE-0D21-468D-B171-ED9F4DE06A52}" type="slidenum">
              <a:t>21</a:t>
            </a:fld>
          </a:p>
        </p:txBody>
      </p:sp>
    </p:spTree>
  </p:cSld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9871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9871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8b20"/>
                </a:solidFill>
                <a:latin typeface="Verdana"/>
              </a:rPr>
              <a:t>Les frais de scolarité n’influencent pas le choix d’entreprendre ou de poursuivre des études universitaires.</a:t>
            </a:r>
            <a:br>
              <a:rPr sz="4000"/>
            </a:br>
            <a:endParaRPr b="0" lang="en-US" sz="36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364920" y="293760"/>
            <a:ext cx="236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MYTHE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276694-4B98-445C-891A-7EB1DB2CD4A8}" type="slidenum">
              <a:t>22</a:t>
            </a:fld>
          </a:p>
        </p:txBody>
      </p:sp>
    </p:spTree>
  </p:cSld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1133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133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Un lien discutable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914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 prétend qu’il existe une relation positive entre les droits de scolarité et le taux de particip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rcRect l="1195" t="1969" r="792" b="2148"/>
          <a:stretch/>
        </p:blipFill>
        <p:spPr>
          <a:xfrm>
            <a:off x="2286000" y="2895480"/>
            <a:ext cx="4495680" cy="3200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11280" y="6400800"/>
            <a:ext cx="751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 : Institut économique de Montréal,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a Hausse des droits de scolarité réduirait-elle l’accessibilité aux études universitaires ?,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février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-1998720" y="388116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FD887A-C14C-48F7-B1B7-7CCD5A8E7540}" type="slidenum">
              <a:t>23</a:t>
            </a:fld>
          </a:p>
        </p:txBody>
      </p:sp>
    </p:spTree>
  </p:cSld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19592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9592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Un graphique peu crédible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2492280"/>
            <a:ext cx="2009520" cy="2934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ranche étudiée 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ulement les  20-21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= 0,4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-1981080" y="388116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987640" y="2254320"/>
            <a:ext cx="5353200" cy="4184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C7180B-7103-4C0C-B1DC-8D262719D5BE}" type="slidenum">
              <a:t>24</a:t>
            </a:fld>
          </a:p>
        </p:txBody>
      </p:sp>
    </p:spTree>
  </p:cSld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6167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6167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4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629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Un graphique peu crédible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2514600"/>
            <a:ext cx="2303280" cy="28591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ranche étudiée 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8-21 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  <a:ea typeface="ＭＳ Ｐゴシック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= 0,2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-1996920" y="381132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771640" y="2060640"/>
            <a:ext cx="5689800" cy="4119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2700360" y="2060640"/>
            <a:ext cx="5761080" cy="4170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FC975-5FCD-49FA-BB87-57558E6BA6F0}" type="slidenum">
              <a:t>25</a:t>
            </a:fld>
          </a:p>
        </p:txBody>
      </p:sp>
    </p:spTree>
  </p:cSld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2690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2690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55640" y="1844640"/>
            <a:ext cx="3129120" cy="4572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« Il serait ridicule d’accorder de l’importance à ce graphiqu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[…]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Il serait ridicule de conclure que si on augmente les frais de scolarité alors le taux de participation va augmenter! 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Verdana"/>
              </a:rPr>
              <a:t>Claude Belisle, professeur au Département de mathématiques et statistique de l’Université Laval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>
            <a:alphaModFix amt="40000"/>
          </a:blip>
          <a:srcRect l="1195" t="1969" r="792" b="2148"/>
          <a:stretch/>
        </p:blipFill>
        <p:spPr>
          <a:xfrm>
            <a:off x="3962520" y="2246400"/>
            <a:ext cx="3925800" cy="34686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Un graphique ridicule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-1992240" y="381132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9A3348-715B-4062-ABE0-87500A2F5374}" type="slidenum">
              <a:t>26</a:t>
            </a:fld>
          </a:p>
        </p:txBody>
      </p:sp>
    </p:spTree>
  </p:cSld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Des données non concluantes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40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« Le taux de participation de la Nouvelle-Écosse qui, à 34 %, représente exactement le double de la moyenne nationale, est </a:t>
            </a:r>
            <a:r>
              <a:rPr b="1" lang="fr-CA" sz="1800" spc="-1" strike="noStrike">
                <a:solidFill>
                  <a:srgbClr val="000000"/>
                </a:solidFill>
                <a:latin typeface="Verdana"/>
              </a:rPr>
              <a:t>un peu gonflé par la présence d’un grand nombre d’étudiants de l’extérieur de la province.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 […] Sans ces étudiants, le taux de participation […] se situerait entre 25 et 30 % 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« Les forts taux de participation aux études universitaires, dans la région de l’Atlantique, s’expliquent par le fait que, jusqu’à tout récemment, le système d’enseignement collégial y était extr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êmement limité, de sorte que </a:t>
            </a:r>
            <a:r>
              <a:rPr b="1" lang="fr-CA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eaucoup de jeunes avaient le choix, finalement, entre ‘‘l’université ou rien’’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6400800"/>
            <a:ext cx="777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Source : Junor et Usher, </a:t>
            </a:r>
            <a:r>
              <a:rPr b="0" i="1" lang="fr-CA" sz="1200" spc="-1" strike="noStrike">
                <a:solidFill>
                  <a:srgbClr val="000000"/>
                </a:solidFill>
                <a:latin typeface="Verdana"/>
              </a:rPr>
              <a:t>Le prix du savoir 2002</a:t>
            </a: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, Fondation canadien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des bourses d’études du millénaire, p.4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86440" y="7066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-1992240" y="388116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6AAD90-7907-4656-B8F8-FE21769CCA24}" type="slidenum">
              <a:t>27</a:t>
            </a:fld>
          </a:p>
        </p:txBody>
      </p:sp>
    </p:spTree>
  </p:cSld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41692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3" dur="41692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f8b20"/>
                </a:solidFill>
                <a:latin typeface="Verdana"/>
              </a:rPr>
              <a:t>Le meilleur indicateur : participation ou… </a:t>
            </a:r>
            <a:r>
              <a:rPr b="0" lang="en-US" sz="3700" spc="-1" strike="noStrike" u="sng">
                <a:solidFill>
                  <a:srgbClr val="2f8b20"/>
                </a:solidFill>
                <a:uFillTx/>
                <a:latin typeface="Verdana"/>
              </a:rPr>
              <a:t>scolarisation</a:t>
            </a:r>
            <a:r>
              <a:rPr b="0" lang="en-US" sz="3700" spc="-1" strike="noStrike">
                <a:solidFill>
                  <a:srgbClr val="2f8b20"/>
                </a:solidFill>
                <a:latin typeface="Verdana"/>
              </a:rPr>
              <a:t>?</a:t>
            </a:r>
            <a:endParaRPr b="0" lang="en-US" sz="37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3581280"/>
            <a:ext cx="7550280" cy="2943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L’important, est-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le nombre d’étudiants qui entrent 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l’université (particip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CA" sz="1800" spc="-1" strike="noStrike">
                <a:solidFill>
                  <a:srgbClr val="000000"/>
                </a:solidFill>
                <a:latin typeface="Verdana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le nombre qui en sortent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Verdana"/>
              </a:rPr>
              <a:t>avec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Verdana"/>
              </a:rPr>
              <a:t>diplôme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(scolarisation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-1995480" y="381132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rcRect l="1195" t="1969" r="792" b="2148"/>
          <a:stretch/>
        </p:blipFill>
        <p:spPr>
          <a:xfrm>
            <a:off x="4419720" y="205740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8" name="" descr=""/>
          <p:cNvPicPr/>
          <p:nvPr/>
        </p:nvPicPr>
        <p:blipFill>
          <a:blip r:embed="rId3"/>
          <a:stretch/>
        </p:blipFill>
        <p:spPr>
          <a:xfrm>
            <a:off x="9468000" y="566100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0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073DE-EE44-42F3-B83E-A9793C743906}" type="slidenum">
              <a:t>28</a:t>
            </a:fld>
          </a:p>
        </p:txBody>
      </p:sp>
    </p:spTree>
  </p:cSld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21525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209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209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21525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4" dur="1" fill="hold"/>
                                        <p:tgtEl>
                                          <p:spTgt spid="208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"/>
          <p:cNvSpPr/>
          <p:nvPr/>
        </p:nvSpPr>
        <p:spPr>
          <a:xfrm rot="16200000">
            <a:off x="-1984320" y="381132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228600"/>
            <a:ext cx="73915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700" spc="-1" strike="noStrike">
                <a:solidFill>
                  <a:srgbClr val="2f8b20"/>
                </a:solidFill>
                <a:latin typeface="Verdana"/>
              </a:rPr>
              <a:t>Les frais </a:t>
            </a:r>
            <a:r>
              <a:rPr b="1" lang="fr-CA" sz="3700" spc="-1" strike="noStrike">
                <a:solidFill>
                  <a:srgbClr val="2f8b20"/>
                </a:solidFill>
                <a:latin typeface="Verdana"/>
              </a:rPr>
              <a:t>influencent</a:t>
            </a:r>
            <a:r>
              <a:rPr b="0" lang="fr-CA" sz="3700" spc="-1" strike="noStrike">
                <a:solidFill>
                  <a:srgbClr val="2f8b20"/>
                </a:solidFill>
                <a:latin typeface="Verdana"/>
              </a:rPr>
              <a:t> le parcours universitair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914400" y="2362320"/>
            <a:ext cx="7467480" cy="3628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ÉALIT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ù les frais de scolarité sont élevé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’endettement est plus grand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dettement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nu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à la persévé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669960" y="-1013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4495680" y="4343400"/>
            <a:ext cx="0" cy="990720"/>
          </a:xfrm>
          <a:prstGeom prst="line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17" name="" descr=""/>
          <p:cNvPicPr/>
          <p:nvPr/>
        </p:nvPicPr>
        <p:blipFill>
          <a:blip r:embed="rId2"/>
          <a:stretch/>
        </p:blipFill>
        <p:spPr>
          <a:xfrm>
            <a:off x="9325080" y="5300640"/>
            <a:ext cx="304560" cy="3049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6220A5-18C4-4E0E-ACD9-99DAD3C41F66}" type="slidenum">
              <a:t>29</a:t>
            </a:fld>
          </a:p>
        </p:txBody>
      </p:sp>
    </p:spTree>
  </p:cSld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19906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216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216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9906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0" dur="1" fill="hold"/>
                                        <p:tgtEl>
                                          <p:spTgt spid="21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8b20"/>
                </a:solidFill>
                <a:latin typeface="Verdana"/>
              </a:rPr>
              <a:t>Un enjeu brûlant</a:t>
            </a:r>
            <a:endParaRPr b="0" lang="en-US" sz="40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1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nées 196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Commission royale d’enquête sur l’enseignement dans la province de Québec (Commission Parent) recommande l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el des frais de scolarité en perspective de gratuité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990 à 199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 dégel a pour effet d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ipl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es frais de scolarité, qui passent alors de 540 $ à 1665 $ par anné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99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gouvernemen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è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es fra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gel est à nouveau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mis en ques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 certains acteurs de la société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B7468-A90B-4325-8B1F-13C63D37780F}" type="slidenum">
              <a:t>3</a:t>
            </a:fld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7959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7959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f8b20"/>
                </a:solidFill>
                <a:latin typeface="Verdana"/>
              </a:rPr>
              <a:t>Les frais </a:t>
            </a:r>
            <a:r>
              <a:rPr b="1" lang="en-US" sz="3700" spc="-1" strike="noStrike">
                <a:solidFill>
                  <a:srgbClr val="2f8b20"/>
                </a:solidFill>
                <a:latin typeface="Verdana"/>
              </a:rPr>
              <a:t>influencent</a:t>
            </a:r>
            <a:r>
              <a:rPr b="0" lang="en-US" sz="3700" spc="-1" strike="noStrike">
                <a:solidFill>
                  <a:srgbClr val="2f8b20"/>
                </a:solidFill>
                <a:latin typeface="Verdana"/>
              </a:rPr>
              <a:t> le parcours universitaire.</a:t>
            </a:r>
            <a:endParaRPr b="0" lang="en-US" sz="37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 Canada, plus les frais de scolarité sont élevés, plus la dette moyenne de l’étudiant est élevée à la fin d’un baccalauré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dette moyenne des étudiants est d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2 300 $ au Québec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ù les frais de scolarité sont au plus bas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à 1 668 $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dette moyenne des étudiants est d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2 400 $ en Nouvelle-Écosse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ù les frais sont les plus élevés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 557 $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20" name=""/>
          <p:cNvSpPr/>
          <p:nvPr/>
        </p:nvSpPr>
        <p:spPr>
          <a:xfrm>
            <a:off x="539640" y="6400800"/>
            <a:ext cx="744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Source : Junor et Usher, </a:t>
            </a:r>
            <a:r>
              <a:rPr b="0" i="1" lang="fr-CA" sz="1200" spc="-1" strike="noStrike">
                <a:solidFill>
                  <a:srgbClr val="000000"/>
                </a:solidFill>
                <a:latin typeface="Verdana"/>
              </a:rPr>
              <a:t>Le prix du savoir 2004</a:t>
            </a: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, Fondation canadienne des bourses d’études du milléna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7647120" y="8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 rot="16200000">
            <a:off x="-1990800" y="388116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2F91E-778D-4DC1-B4C0-D4C948C7613D}" type="slidenum">
              <a:t>30</a:t>
            </a:fld>
          </a:p>
        </p:txBody>
      </p:sp>
    </p:spTree>
  </p:cSld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6" dur="1366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24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224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1" dur="1366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23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223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f8b20"/>
                </a:solidFill>
                <a:latin typeface="Verdana"/>
              </a:rPr>
              <a:t>Les frais </a:t>
            </a:r>
            <a:r>
              <a:rPr b="1" lang="en-US" sz="3700" spc="-1" strike="noStrike">
                <a:solidFill>
                  <a:srgbClr val="2f8b20"/>
                </a:solidFill>
                <a:latin typeface="Verdana"/>
              </a:rPr>
              <a:t>influencent</a:t>
            </a:r>
            <a:r>
              <a:rPr b="0" lang="en-US" sz="3700" spc="-1" strike="noStrike">
                <a:solidFill>
                  <a:srgbClr val="2f8b20"/>
                </a:solidFill>
                <a:latin typeface="Verdana"/>
              </a:rPr>
              <a:t> le parcours universitaire.</a:t>
            </a:r>
            <a:endParaRPr b="0" lang="en-US" sz="37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26" name=""/>
          <p:cNvSpPr/>
          <p:nvPr/>
        </p:nvSpPr>
        <p:spPr>
          <a:xfrm rot="16200000">
            <a:off x="-1993680" y="388116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7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9" name="" descr=""/>
          <p:cNvPicPr/>
          <p:nvPr/>
        </p:nvPicPr>
        <p:blipFill>
          <a:blip r:embed="rId2"/>
          <a:stretch/>
        </p:blipFill>
        <p:spPr>
          <a:xfrm>
            <a:off x="1258920" y="1773360"/>
            <a:ext cx="6624720" cy="49435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4185F8-ADBB-49EA-91F2-B3E98E0B4A1B}" type="slidenum">
              <a:t>31</a:t>
            </a:fld>
          </a:p>
        </p:txBody>
      </p:sp>
    </p:spTree>
  </p:cSld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3437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228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228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7" dur="3437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227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227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L’endettement nuit</a:t>
            </a:r>
            <a:br>
              <a:rPr sz="3900"/>
            </a:b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à la persévérance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3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existe un lien direct entre l’aide financière et la persévérance scolai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2" name=""/>
          <p:cNvSpPr/>
          <p:nvPr/>
        </p:nvSpPr>
        <p:spPr>
          <a:xfrm>
            <a:off x="826920" y="4149720"/>
            <a:ext cx="777240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>
            <a:off x="914400" y="3505320"/>
            <a:ext cx="7315200" cy="2654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Plus un étudiant reçoit une aide annuelle importante sous la forme de prê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(avec ou sans une bours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Plus ses chances d’obtenir son diplôme diminu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4495680" y="4648320"/>
            <a:ext cx="0" cy="990360"/>
          </a:xfrm>
          <a:prstGeom prst="line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 rot="16200000">
            <a:off x="-1981080" y="381132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2DAB23-4185-4321-8BB4-631E8B22508F}" type="slidenum">
              <a:t>32</a:t>
            </a:fld>
          </a:p>
        </p:txBody>
      </p:sp>
    </p:spTree>
  </p:cSld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8" dur="3296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237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237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3" dur="3296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36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236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"/>
          <p:cNvSpPr/>
          <p:nvPr/>
        </p:nvSpPr>
        <p:spPr>
          <a:xfrm>
            <a:off x="609480" y="6321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"/>
          <p:cNvSpPr/>
          <p:nvPr/>
        </p:nvSpPr>
        <p:spPr>
          <a:xfrm flipH="1" flipV="1">
            <a:off x="4647600" y="-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"/>
          <p:cNvSpPr/>
          <p:nvPr/>
        </p:nvSpPr>
        <p:spPr>
          <a:xfrm>
            <a:off x="6659640" y="3213000"/>
            <a:ext cx="201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6575400" y="44118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2" name="" descr=""/>
          <p:cNvPicPr/>
          <p:nvPr/>
        </p:nvPicPr>
        <p:blipFill>
          <a:blip r:embed="rId2"/>
          <a:stretch/>
        </p:blipFill>
        <p:spPr>
          <a:xfrm>
            <a:off x="2057400" y="2514600"/>
            <a:ext cx="4991040" cy="3735360"/>
          </a:xfrm>
          <a:prstGeom prst="rect">
            <a:avLst/>
          </a:prstGeom>
          <a:ln w="0">
            <a:noFill/>
          </a:ln>
        </p:spPr>
      </p:pic>
      <p:sp>
        <p:nvSpPr>
          <p:cNvPr id="243" name=""/>
          <p:cNvSpPr/>
          <p:nvPr/>
        </p:nvSpPr>
        <p:spPr>
          <a:xfrm>
            <a:off x="468360" y="6400800"/>
            <a:ext cx="813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Source : McELROY, Lori. </a:t>
            </a:r>
            <a:r>
              <a:rPr b="0" i="1" lang="fr-CA" sz="1200" spc="-1" strike="noStrike">
                <a:solidFill>
                  <a:srgbClr val="000000"/>
                </a:solidFill>
                <a:latin typeface="Verdana"/>
              </a:rPr>
              <a:t>L'aide financière aux études et la persévérance à l'université – L'influence de l'endettement</a:t>
            </a: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, Montréal, Fondation canadienne des bourses d’études du millénaire, 2005, p. 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>
            <a:off x="838080" y="228600"/>
            <a:ext cx="7391520" cy="11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900" spc="-1" strike="noStrike">
                <a:solidFill>
                  <a:srgbClr val="2f8b20"/>
                </a:solidFill>
                <a:latin typeface="Verdana"/>
              </a:rPr>
              <a:t>L’endettement nuit</a:t>
            </a:r>
            <a:br>
              <a:rPr sz="3900"/>
            </a:br>
            <a:r>
              <a:rPr b="0" lang="fr-CA" sz="3900" spc="-1" strike="noStrike">
                <a:solidFill>
                  <a:srgbClr val="2f8b20"/>
                </a:solidFill>
                <a:latin typeface="Verdana"/>
              </a:rPr>
              <a:t>à la persévéra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"/>
          <p:cNvSpPr/>
          <p:nvPr/>
        </p:nvSpPr>
        <p:spPr>
          <a:xfrm>
            <a:off x="1219320" y="1981080"/>
            <a:ext cx="6781680" cy="307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ersévérance selon le montant de soutien annualisé et le type de sout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"/>
          <p:cNvSpPr/>
          <p:nvPr/>
        </p:nvSpPr>
        <p:spPr>
          <a:xfrm>
            <a:off x="6377040" y="7184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 rot="16200000">
            <a:off x="-1987560" y="381132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8" name="" descr=""/>
          <p:cNvPicPr/>
          <p:nvPr/>
        </p:nvPicPr>
        <p:blipFill>
          <a:blip r:embed="rId3"/>
          <a:stretch/>
        </p:blipFill>
        <p:spPr>
          <a:xfrm>
            <a:off x="2057400" y="2514600"/>
            <a:ext cx="5029200" cy="3762360"/>
          </a:xfrm>
          <a:prstGeom prst="rect">
            <a:avLst/>
          </a:prstGeom>
          <a:ln w="0">
            <a:noFill/>
          </a:ln>
        </p:spPr>
      </p:pic>
      <p:sp>
        <p:nvSpPr>
          <p:cNvPr id="249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0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50EBAB-B613-4C3C-B512-1D9F2D4B9AAA}" type="slidenum">
              <a:t>33</a:t>
            </a:fld>
          </a:p>
        </p:txBody>
      </p:sp>
    </p:spTree>
  </p:cSld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7606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250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250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7606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249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249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Moins endettés, plus persévérants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792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’est au Québec que les jeunes invoquent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 moins souv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le manque d’argent pour justifier de ne pas poursuivre des études postsecondaires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3" name="" descr=""/>
          <p:cNvPicPr/>
          <p:nvPr/>
        </p:nvPicPr>
        <p:blipFill>
          <a:blip r:embed="rId2"/>
          <a:srcRect l="0" t="8455" r="0" b="10492"/>
          <a:stretch/>
        </p:blipFill>
        <p:spPr>
          <a:xfrm>
            <a:off x="990720" y="2924280"/>
            <a:ext cx="7162560" cy="3247920"/>
          </a:xfrm>
          <a:prstGeom prst="rect">
            <a:avLst/>
          </a:prstGeom>
          <a:ln w="0">
            <a:noFill/>
          </a:ln>
        </p:spPr>
      </p:pic>
      <p:sp>
        <p:nvSpPr>
          <p:cNvPr id="254" name=""/>
          <p:cNvSpPr/>
          <p:nvPr/>
        </p:nvSpPr>
        <p:spPr>
          <a:xfrm>
            <a:off x="952200" y="6435720"/>
            <a:ext cx="6191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Source: Folley, Kelly. </a:t>
            </a:r>
            <a:r>
              <a:rPr b="0" i="1" lang="fr-CA" sz="1200" spc="-1" strike="noStrike">
                <a:solidFill>
                  <a:srgbClr val="000000"/>
                </a:solidFill>
                <a:latin typeface="Verdana"/>
              </a:rPr>
              <a:t>Pourquoi arrêter après l’école secondaire?,</a:t>
            </a: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 Fondation canadie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des bourses d’études du millénaire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 rot="16200000">
            <a:off x="-1960560" y="397080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1116000" y="3789360"/>
            <a:ext cx="223200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"/>
          <p:cNvSpPr/>
          <p:nvPr/>
        </p:nvSpPr>
        <p:spPr>
          <a:xfrm>
            <a:off x="4572000" y="3789360"/>
            <a:ext cx="720720" cy="2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B00BA-252D-435D-97E5-D198A54CAFAB}" type="slidenum">
              <a:t>34</a:t>
            </a:fld>
          </a:p>
        </p:txBody>
      </p:sp>
    </p:spTree>
  </p:cSld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2" dur="2899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259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259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2899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258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258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900" spc="-1" strike="noStrike">
                <a:solidFill>
                  <a:srgbClr val="2f8b20"/>
                </a:solidFill>
                <a:latin typeface="Verdana"/>
              </a:rPr>
              <a:t>Moins endettés, plus persévérants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61" name=""/>
          <p:cNvSpPr/>
          <p:nvPr/>
        </p:nvSpPr>
        <p:spPr>
          <a:xfrm>
            <a:off x="380880" y="-7621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 rot="16200000">
            <a:off x="-1996920" y="388116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"/>
          <p:cNvSpPr/>
          <p:nvPr/>
        </p:nvSpPr>
        <p:spPr>
          <a:xfrm>
            <a:off x="838080" y="2438280"/>
            <a:ext cx="7239240" cy="3153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ÉALIT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Québe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frais de scolarité les plus 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 taux d’endettement le plus fa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=     SUCCÈ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4EF361-A784-4461-AB5C-544B55381A49}" type="slidenum">
              <a:t>35</a:t>
            </a:fld>
          </a:p>
        </p:txBody>
      </p:sp>
    </p:spTree>
  </p:cSld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8" dur="1509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265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265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3" dur="1509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264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264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6" name="PlaceHolder 1"/>
          <p:cNvSpPr>
            <a:spLocks noGrp="1"/>
          </p:cNvSpPr>
          <p:nvPr>
            <p:ph type="title"/>
          </p:nvPr>
        </p:nvSpPr>
        <p:spPr>
          <a:xfrm>
            <a:off x="179280" y="24919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67" name=""/>
          <p:cNvSpPr/>
          <p:nvPr/>
        </p:nvSpPr>
        <p:spPr>
          <a:xfrm>
            <a:off x="3517560" y="369720"/>
            <a:ext cx="236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MYTHE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"/>
          <p:cNvSpPr/>
          <p:nvPr/>
        </p:nvSpPr>
        <p:spPr>
          <a:xfrm>
            <a:off x="838080" y="3276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2f8b20"/>
                </a:solidFill>
                <a:latin typeface="Verdana"/>
              </a:rPr>
              <a:t>Les jeunes pourraient travailler plus pour payer leurs étu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49F44-6EEC-488D-99C6-99CF64341BE2}" type="slidenum">
              <a:t>36</a:t>
            </a:fld>
          </a:p>
        </p:txBody>
      </p:sp>
    </p:spTree>
  </p:cSld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4" dur="598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270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270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9" dur="598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269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269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4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Conciliation travail-études: plus importante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649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 plus en plus d’étudiants occupent un emploi à temps partiel durant leurs étud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3" name=""/>
          <p:cNvSpPr/>
          <p:nvPr/>
        </p:nvSpPr>
        <p:spPr>
          <a:xfrm>
            <a:off x="468360" y="658332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 : Statistique Canada,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Enquête sur la population activ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octobre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 rot="16200000">
            <a:off x="-2349360" y="3550320"/>
            <a:ext cx="50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6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jeunes pourraient travailler pl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5" name="" descr=""/>
          <p:cNvPicPr/>
          <p:nvPr/>
        </p:nvPicPr>
        <p:blipFill>
          <a:blip r:embed="rId2"/>
          <a:srcRect l="11326" t="33359" r="56852" b="30815"/>
          <a:stretch/>
        </p:blipFill>
        <p:spPr>
          <a:xfrm>
            <a:off x="684360" y="2492280"/>
            <a:ext cx="5256000" cy="3456000"/>
          </a:xfrm>
          <a:prstGeom prst="rect">
            <a:avLst/>
          </a:prstGeom>
          <a:ln w="0">
            <a:noFill/>
          </a:ln>
        </p:spPr>
      </p:pic>
      <p:sp>
        <p:nvSpPr>
          <p:cNvPr id="276" name=""/>
          <p:cNvSpPr/>
          <p:nvPr/>
        </p:nvSpPr>
        <p:spPr>
          <a:xfrm>
            <a:off x="6156360" y="3429000"/>
            <a:ext cx="1871640" cy="2431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Étudiants à temps plein avec emploi à temps parti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976 - 2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04 - 4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"/>
          <p:cNvSpPr/>
          <p:nvPr/>
        </p:nvSpPr>
        <p:spPr>
          <a:xfrm>
            <a:off x="684360" y="5950080"/>
            <a:ext cx="5256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ux d’emploi pendant l’année scolaire des étudiants à temps plein, Canada, 1976-77 à 2004-0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2CCCB7-F87F-4909-9817-C4FE01D9B3E1}" type="slidenum">
              <a:t>37</a:t>
            </a:fld>
          </a:p>
        </p:txBody>
      </p:sp>
    </p:spTree>
  </p:cSld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0" dur="5020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279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279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5" dur="5020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278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278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0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900000" y="1916280"/>
            <a:ext cx="73216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2f8b20"/>
                </a:solidFill>
                <a:latin typeface="Verdana"/>
              </a:rPr>
              <a:t>Les étudiants ont suffisamment d’argent pour se payer des voitures.</a:t>
            </a:r>
            <a:endParaRPr b="0" lang="en-US" sz="43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81" name=""/>
          <p:cNvSpPr/>
          <p:nvPr/>
        </p:nvSpPr>
        <p:spPr>
          <a:xfrm>
            <a:off x="3288960" y="293760"/>
            <a:ext cx="236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MYTHE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82" name="" descr=""/>
          <p:cNvPicPr/>
          <p:nvPr/>
        </p:nvPicPr>
        <p:blipFill>
          <a:blip r:embed="rId2"/>
          <a:srcRect l="0" t="26169" r="0" b="21292"/>
          <a:stretch/>
        </p:blipFill>
        <p:spPr>
          <a:xfrm>
            <a:off x="1547640" y="4581360"/>
            <a:ext cx="6048720" cy="2089440"/>
          </a:xfrm>
          <a:prstGeom prst="rect">
            <a:avLst/>
          </a:prstGeom>
          <a:ln w="0">
            <a:noFill/>
          </a:ln>
        </p:spPr>
      </p:pic>
      <p:sp>
        <p:nvSpPr>
          <p:cNvPr id="283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942829-40EF-49F0-830B-601817D4F673}" type="slidenum">
              <a:t>38</a:t>
            </a:fld>
          </a:p>
        </p:txBody>
      </p:sp>
    </p:spTree>
  </p:cSld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6" dur="8830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284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284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1" dur="8830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283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283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Des revenus moins importants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0000" cy="2514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re 1994 et 2001 : le revenu des étudiants universitaires québécois 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diminué de 17,2 %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venus des étudiants en 2001 :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 102 $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uil de faible revenu en 2001 :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8 999 $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re 1994 et 2001,</a:t>
            </a:r>
            <a:r>
              <a:rPr b="0" lang="en-US" sz="2000" spc="-1" strike="noStrike">
                <a:solidFill>
                  <a:srgbClr val="5918bb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taux horaire de rémuné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ye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utait de 11,8 %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7" name=""/>
          <p:cNvSpPr/>
          <p:nvPr/>
        </p:nvSpPr>
        <p:spPr>
          <a:xfrm>
            <a:off x="611280" y="5853240"/>
            <a:ext cx="7994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ide financière aux études</a:t>
            </a:r>
            <a:r>
              <a:rPr b="0" i="1" lang="fr-FR" sz="1200" spc="-1" strike="noStrike">
                <a:solidFill>
                  <a:srgbClr val="000000"/>
                </a:solidFill>
                <a:latin typeface="Verdana"/>
              </a:rPr>
              <a:t>, Enquête sur la condition de vie des étudiants 2002,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Québec, 2003 ; Sales, Arnaud et Drolet, Réjean, </a:t>
            </a:r>
            <a:r>
              <a:rPr b="0" i="1" lang="fr-FR" sz="1200" spc="-1" strike="noStrike">
                <a:solidFill>
                  <a:srgbClr val="000000"/>
                </a:solidFill>
                <a:latin typeface="Verdana"/>
              </a:rPr>
              <a:t>Le Monde étudiant à la fin du XXème siècl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, UdeM – MEQ, 1996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tatistique Canada, </a:t>
            </a:r>
            <a:r>
              <a:rPr b="0" i="1" lang="fr-FR" sz="1200" spc="-1" strike="noStrike">
                <a:solidFill>
                  <a:srgbClr val="000000"/>
                </a:solidFill>
                <a:latin typeface="Verdana"/>
              </a:rPr>
              <a:t>Seuil de faible revenu avant et après impôt pour les régions rurales et urbaines, selon la taille de la famille, données annuelles ($),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tableau # 202-08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r>
              <a:rPr b="0" i="1" lang="fr-FR" sz="1200" spc="-1" strike="noStrike">
                <a:solidFill>
                  <a:srgbClr val="000000"/>
                </a:solidFill>
                <a:latin typeface="Verdana"/>
              </a:rPr>
              <a:t>Transformation structurelle du temps de travail,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Québec / Canada</a:t>
            </a:r>
            <a:r>
              <a:rPr b="0" i="1" lang="fr-FR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AFCA, 200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755640" y="4572000"/>
            <a:ext cx="7704000" cy="788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insi, les étudiants travaillent plus pour un moindre salaire et le temps disponible pour leurs études est rédui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 rot="16200000">
            <a:off x="-2594880" y="3271320"/>
            <a:ext cx="55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7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étudiants ont suffisamment d’arg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"/>
          <p:cNvSpPr/>
          <p:nvPr/>
        </p:nvSpPr>
        <p:spPr>
          <a:xfrm>
            <a:off x="1066680" y="4952880"/>
            <a:ext cx="990720" cy="0"/>
          </a:xfrm>
          <a:prstGeom prst="line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B438BB-2F32-4FE8-9FDD-9D765475A989}" type="slidenum">
              <a:t>39</a:t>
            </a:fld>
          </a:p>
        </p:txBody>
      </p:sp>
    </p:spTree>
  </p:cSld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2" dur="8158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292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292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7" dur="8158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291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291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Que sont les frais de scolarité?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560" y="1828800"/>
            <a:ext cx="7417080" cy="4121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’est le montant que doit payer un étudiant pour suivre une formation universitai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5,61 $ / créd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it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668 $ pour une année norma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/ 30 crédi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s frais excluent les frais accessoires (en moyenn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24 $ par anné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 Par exempl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is pour les services aux étudiants (frais afférent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tisations aux associations étudian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is technologiq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tres frais obligatoi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65674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s : Statistique Canada et sites de diverses université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E67D0-EF6D-45D1-9F42-9CA9EE7F8656}" type="slidenum">
              <a:t>4</a:t>
            </a:fld>
          </a:p>
        </p:txBody>
      </p:sp>
    </p:spTree>
  </p:cSld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9623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9623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Des revenus insuffisants</a:t>
            </a:r>
            <a:r>
              <a:rPr b="0" lang="en-US" sz="4400" spc="-1" strike="noStrike">
                <a:solidFill>
                  <a:srgbClr val="2f8b2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94" name="PlaceHolder 2"/>
          <p:cNvSpPr>
            <a:spLocks noGrp="1"/>
          </p:cNvSpPr>
          <p:nvPr>
            <p:ph/>
          </p:nvPr>
        </p:nvSpPr>
        <p:spPr>
          <a:xfrm>
            <a:off x="755280" y="1905120"/>
            <a:ext cx="7488360" cy="4238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’étudiant ne résidant pas chez ses parents doit payer 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f8b2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ais de scolarité : 2 277 $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f8b2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tériel et livres scolaires : 592 $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f8b2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ement : 4 980 $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f8b2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imentation : 3 077 $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f8b2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 : 1 050 $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f8b2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êtements et chaussures : 619 $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our un total de 12 595 $,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sans sports, loisirs, ni cadeaux de Noël 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5" name=""/>
          <p:cNvSpPr/>
          <p:nvPr/>
        </p:nvSpPr>
        <p:spPr>
          <a:xfrm>
            <a:off x="611280" y="6400800"/>
            <a:ext cx="77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Source :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ide financière aux études</a:t>
            </a:r>
            <a:r>
              <a:rPr b="0" i="1" lang="fr-FR" sz="1200" spc="-1" strike="noStrike">
                <a:solidFill>
                  <a:srgbClr val="000000"/>
                </a:solidFill>
                <a:latin typeface="Verdana"/>
              </a:rPr>
              <a:t>, Enquête sur la condition de vie des étudiants 2002,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Québec, 2003, p. 9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"/>
          <p:cNvSpPr/>
          <p:nvPr/>
        </p:nvSpPr>
        <p:spPr>
          <a:xfrm rot="16200000">
            <a:off x="-2601360" y="3201480"/>
            <a:ext cx="55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7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étudiants ont suffisamment d’arg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8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32A7E-0A39-46E4-9BD8-E967E7DC58E7}" type="slidenum">
              <a:t>40</a:t>
            </a:fld>
          </a:p>
        </p:txBody>
      </p:sp>
    </p:spTree>
  </p:cSld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8" dur="39602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298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298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3" dur="39602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297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297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Des revenus insuffisants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00" name=""/>
          <p:cNvSpPr/>
          <p:nvPr/>
        </p:nvSpPr>
        <p:spPr>
          <a:xfrm rot="16200000">
            <a:off x="-2602800" y="3279960"/>
            <a:ext cx="55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7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étudiants ont suffisamment d’arg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01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7134120" cy="4734000"/>
          </a:xfrm>
          <a:prstGeom prst="rect">
            <a:avLst/>
          </a:prstGeom>
          <a:ln w="0">
            <a:noFill/>
          </a:ln>
        </p:spPr>
      </p:pic>
      <p:sp>
        <p:nvSpPr>
          <p:cNvPr id="302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BFFBF-E4A5-4D3C-9314-0E60BFD5D704}" type="slidenum">
              <a:t>41</a:t>
            </a:fld>
          </a:p>
        </p:txBody>
      </p:sp>
    </p:spTree>
  </p:cSld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4" dur="17790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9" dur="17790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302"/>
                    </p:tgtEl>
                  </p:cond>
                </p:stCondLst>
                <p:childTnLst>
                  <p:par>
                    <p:cTn id="641" fill="hold">
                      <p:stCondLst>
                        <p:cond evt="onClick">
                          <p:tgtEl>
                            <p:spTgt spid="302"/>
                          </p:tgtEl>
                        </p:cond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4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762120" y="3428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8b20"/>
                </a:solidFill>
                <a:latin typeface="Verdana"/>
              </a:rPr>
              <a:t>Il faut rejoindre la moyenne canadienne des frais de scolarité.</a:t>
            </a:r>
            <a:endParaRPr b="0" lang="en-US" sz="36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05" name=""/>
          <p:cNvSpPr/>
          <p:nvPr/>
        </p:nvSpPr>
        <p:spPr>
          <a:xfrm>
            <a:off x="3517560" y="369720"/>
            <a:ext cx="236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MYTHE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B041F-3865-4FD6-957B-8D6A343AFCE5}" type="slidenum">
              <a:t>42</a:t>
            </a:fld>
          </a:p>
        </p:txBody>
      </p:sp>
    </p:spTree>
  </p:cSld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0" dur="7445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307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307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5" dur="7445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306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306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0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Rejoindre la moyenne?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09" name=""/>
          <p:cNvSpPr/>
          <p:nvPr/>
        </p:nvSpPr>
        <p:spPr>
          <a:xfrm rot="16200000">
            <a:off x="-2566080" y="3323160"/>
            <a:ext cx="55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8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Il faut rejoindre la moyenne canadien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"/>
          <p:cNvSpPr/>
          <p:nvPr/>
        </p:nvSpPr>
        <p:spPr>
          <a:xfrm>
            <a:off x="762120" y="1981080"/>
            <a:ext cx="7696080" cy="717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On se compare le plus souvent au reste du Canada et aux États-Uni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le pays où les frais de scolarité sont les plus élevés au mon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-762120"/>
            <a:ext cx="358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6443640" y="3789360"/>
            <a:ext cx="1871640" cy="1769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Qu’en est-il si l’on se compare au reste du mon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3" name="" descr=""/>
          <p:cNvPicPr/>
          <p:nvPr/>
        </p:nvPicPr>
        <p:blipFill>
          <a:blip r:embed="rId2"/>
          <a:stretch/>
        </p:blipFill>
        <p:spPr>
          <a:xfrm>
            <a:off x="755640" y="2793960"/>
            <a:ext cx="5545080" cy="3909960"/>
          </a:xfrm>
          <a:prstGeom prst="rect">
            <a:avLst/>
          </a:prstGeom>
          <a:ln w="0">
            <a:noFill/>
          </a:ln>
        </p:spPr>
      </p:pic>
      <p:sp>
        <p:nvSpPr>
          <p:cNvPr id="314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FAAEF4-8D18-4EB5-8F30-E60415D44539}" type="slidenum">
              <a:t>43</a:t>
            </a:fld>
          </a:p>
        </p:txBody>
      </p:sp>
    </p:spTree>
  </p:cSld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6" dur="2810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315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315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2810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314"/>
                    </p:tgtEl>
                  </p:cond>
                </p:stCondLst>
                <p:childTnLst>
                  <p:par>
                    <p:cTn id="673" fill="hold">
                      <p:stCondLst>
                        <p:cond evt="onClick">
                          <p:tgtEl>
                            <p:spTgt spid="314"/>
                          </p:tgtEl>
                        </p:cond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Rejoindre la moyenne ?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17" name=""/>
          <p:cNvSpPr/>
          <p:nvPr/>
        </p:nvSpPr>
        <p:spPr>
          <a:xfrm>
            <a:off x="826920" y="5950080"/>
            <a:ext cx="7777440" cy="7340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8b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Les frais de scolarité au Québec demeurent plus élevés que dans la majorité des pays d’Eur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"/>
          <p:cNvSpPr/>
          <p:nvPr/>
        </p:nvSpPr>
        <p:spPr>
          <a:xfrm>
            <a:off x="826920" y="2637000"/>
            <a:ext cx="1873440" cy="30196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2 consta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da31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Le Canada est l’un des pays où les études universitaires sont les plus chères au mo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 rot="16200000">
            <a:off x="-2577240" y="3261240"/>
            <a:ext cx="55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8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Il faut rejoindre la moyenne canadien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20" name="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5659560" cy="4130640"/>
          </a:xfrm>
          <a:prstGeom prst="rect">
            <a:avLst/>
          </a:prstGeom>
          <a:ln w="0">
            <a:noFill/>
          </a:ln>
        </p:spPr>
      </p:pic>
      <p:sp>
        <p:nvSpPr>
          <p:cNvPr id="321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4C994F-59D1-455F-9CB0-A52D6F0A598F}" type="slidenum">
              <a:t>44</a:t>
            </a:fld>
          </a:p>
        </p:txBody>
      </p:sp>
    </p:spTree>
  </p:cSld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2" dur="4952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322"/>
                    </p:tgtEl>
                  </p:cond>
                </p:stCondLst>
                <p:childTnLst>
                  <p:par>
                    <p:cTn id="684" fill="hold">
                      <p:stCondLst>
                        <p:cond evt="onClick">
                          <p:tgtEl>
                            <p:spTgt spid="322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7" dur="4952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321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321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3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Frais de scolarité et scolarisation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24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7773840" cy="4408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mparaison mondiale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s pays où les frais sont les plus bas affichent souvent des taux de scolarisation très enviab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insi, parmi les 10 pays de l’OC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es plus scolarisé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’exigent pas de frais de scolarité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xigent des frais inférieurs à ceux du Canada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eul exige des frais supérieurs à la moyenne canadienn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5" name=""/>
          <p:cNvSpPr/>
          <p:nvPr/>
        </p:nvSpPr>
        <p:spPr>
          <a:xfrm>
            <a:off x="609480" y="655308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 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Regards sur l’éducation 2006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OC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"/>
          <p:cNvSpPr/>
          <p:nvPr/>
        </p:nvSpPr>
        <p:spPr>
          <a:xfrm rot="16200000">
            <a:off x="-2574000" y="3258000"/>
            <a:ext cx="55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8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Il faut rejoindre la moyenne canadien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44488D-D189-4A5B-9F8E-76DE2A09C417}" type="slidenum">
              <a:t>45</a:t>
            </a:fld>
          </a:p>
        </p:txBody>
      </p:sp>
    </p:spTree>
  </p:cSld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8" dur="4307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3" dur="4307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327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327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L’UNIVERSITÉ DÉMYSTIFIÉE</a:t>
            </a:r>
            <a:endParaRPr b="0" lang="en-US" sz="35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06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f8b2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facture des étudiants augmente depuis 1994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f8b2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 gel n’est pas une subvention aux rich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f8b2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 pauvres vont moins à l’université que les rich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f8b2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’éducation est un investissement pour to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1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2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1C8796-CFA4-43E0-B241-36AEC2613FF8}" type="slidenum">
              <a:t>46</a:t>
            </a:fld>
          </a:p>
        </p:txBody>
      </p:sp>
    </p:spTree>
  </p:cSld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4" dur="3325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716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9" dur="3325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331"/>
                    </p:tgtEl>
                  </p:cond>
                </p:stCondLst>
                <p:childTnLst>
                  <p:par>
                    <p:cTn id="721" fill="hold">
                      <p:stCondLst>
                        <p:cond evt="onClick">
                          <p:tgtEl>
                            <p:spTgt spid="331"/>
                          </p:tgtEl>
                        </p:cond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4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L’UNIVERSITÉ DÉMYSTIFIÉE</a:t>
            </a:r>
            <a:endParaRPr b="0" lang="en-US" sz="35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4956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f8b2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 frais de scolarité influencent le choix d’entreprendre ou de poursuivre des études universitai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f8b2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 étudiants travaillent de plus en pl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f8b2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 étudiants vivent avec de faibles reven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8b20"/>
                </a:solidFill>
                <a:latin typeface="Verdana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moyenne canadienne des frais de scolarité : un piège 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5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A1C06B-37C9-4DA2-8CCB-08BB01256DE1}" type="slidenum">
              <a:t>47</a:t>
            </a:fld>
          </a:p>
        </p:txBody>
      </p:sp>
    </p:spTree>
  </p:cSld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0" dur="38035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36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36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5" dur="38035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35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335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0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7" name="" descr=""/>
          <p:cNvPicPr/>
          <p:nvPr/>
        </p:nvPicPr>
        <p:blipFill>
          <a:blip r:embed="rId2"/>
          <a:stretch/>
        </p:blipFill>
        <p:spPr>
          <a:xfrm>
            <a:off x="2556000" y="2276640"/>
            <a:ext cx="4249440" cy="3904920"/>
          </a:xfrm>
          <a:prstGeom prst="rect">
            <a:avLst/>
          </a:prstGeom>
          <a:ln w="0">
            <a:noFill/>
          </a:ln>
        </p:spPr>
      </p:pic>
      <p:sp>
        <p:nvSpPr>
          <p:cNvPr id="338" name=""/>
          <p:cNvSpPr/>
          <p:nvPr/>
        </p:nvSpPr>
        <p:spPr>
          <a:xfrm>
            <a:off x="914400" y="228600"/>
            <a:ext cx="7467480" cy="11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900" spc="-1" strike="noStrike">
                <a:solidFill>
                  <a:srgbClr val="2f8b20"/>
                </a:solidFill>
                <a:latin typeface="Verdana"/>
              </a:rPr>
              <a:t>Le modèle québécois,</a:t>
            </a:r>
            <a:br>
              <a:rPr sz="3900"/>
            </a:br>
            <a:r>
              <a:rPr b="0" lang="fr-CA" sz="3900" spc="-1" strike="noStrike">
                <a:solidFill>
                  <a:srgbClr val="2f8b20"/>
                </a:solidFill>
                <a:latin typeface="Verdana"/>
              </a:rPr>
              <a:t>un échec 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9" name=""/>
          <p:cNvSpPr/>
          <p:nvPr/>
        </p:nvSpPr>
        <p:spPr>
          <a:xfrm>
            <a:off x="4371480" y="350028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81E717-54DC-4D04-95CB-91730AA5F4FA}" type="slidenum">
              <a:t>48</a:t>
            </a:fld>
          </a:p>
        </p:txBody>
      </p:sp>
    </p:spTree>
  </p:cSld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6" dur="1554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341"/>
                    </p:tgtEl>
                  </p:cond>
                </p:stCondLst>
                <p:childTnLst>
                  <p:par>
                    <p:cTn id="748" fill="hold">
                      <p:stCondLst>
                        <p:cond evt="onClick">
                          <p:tgtEl>
                            <p:spTgt spid="341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1" dur="1554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340"/>
                    </p:tgtEl>
                  </p:cond>
                </p:stCondLst>
                <p:childTnLst>
                  <p:par>
                    <p:cTn id="753" fill="hold">
                      <p:stCondLst>
                        <p:cond evt="onClick">
                          <p:tgtEl>
                            <p:spTgt spid="340"/>
                          </p:tgtEl>
                        </p:cond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238880" cy="838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taux de scolarisation postsecondaire du Québec est le plus élevé au pays:</a:t>
            </a:r>
            <a:endParaRPr b="0" lang="en-US" sz="2000" spc="-1" strike="noStrike">
              <a:solidFill>
                <a:srgbClr val="2f8b20"/>
              </a:solidFill>
              <a:latin typeface="Verdana"/>
            </a:endParaRPr>
          </a:p>
        </p:txBody>
      </p:sp>
      <p:pic>
        <p:nvPicPr>
          <p:cNvPr id="34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7697880" cy="3363840"/>
          </a:xfrm>
          <a:prstGeom prst="rect">
            <a:avLst/>
          </a:prstGeom>
          <a:ln w="0">
            <a:noFill/>
          </a:ln>
        </p:spPr>
      </p:pic>
      <p:sp>
        <p:nvSpPr>
          <p:cNvPr id="344" name=""/>
          <p:cNvSpPr/>
          <p:nvPr/>
        </p:nvSpPr>
        <p:spPr>
          <a:xfrm>
            <a:off x="990720" y="228600"/>
            <a:ext cx="7391160" cy="11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900" spc="-1" strike="noStrike">
                <a:solidFill>
                  <a:srgbClr val="2f8b20"/>
                </a:solidFill>
                <a:latin typeface="Verdana"/>
              </a:rPr>
              <a:t>Le modèle québécois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900" spc="-1" strike="noStrike">
                <a:solidFill>
                  <a:srgbClr val="2f8b20"/>
                </a:solidFill>
                <a:latin typeface="Verdana"/>
              </a:rPr>
              <a:t>un succès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D4CAD1-F430-4138-A989-BC163B260B4E}" type="slidenum">
              <a:t>49</a:t>
            </a:fld>
          </a:p>
        </p:txBody>
      </p:sp>
    </p:spTree>
  </p:cSld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2" dur="2998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3" restart="whenNotActive" nodeType="interactiveSeq" fill="hold">
                <p:stCondLst>
                  <p:cond evt="onClick">
                    <p:tgtEl>
                      <p:spTgt spid="346"/>
                    </p:tgtEl>
                  </p:cond>
                </p:stCondLst>
                <p:childTnLst>
                  <p:par>
                    <p:cTn id="764" fill="hold">
                      <p:stCondLst>
                        <p:cond evt="onClick">
                          <p:tgtEl>
                            <p:spTgt spid="346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7" dur="2998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8" restart="whenNotActive" nodeType="interactiveSeq" fill="hold">
                <p:stCondLst>
                  <p:cond evt="onClick">
                    <p:tgtEl>
                      <p:spTgt spid="345"/>
                    </p:tgtEl>
                  </p:cond>
                </p:stCondLst>
                <p:childTnLst>
                  <p:par>
                    <p:cTn id="769" fill="hold">
                      <p:stCondLst>
                        <p:cond evt="onClick">
                          <p:tgtEl>
                            <p:spTgt spid="345"/>
                          </p:tgtEl>
                        </p:cond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Les mythes au sujet</a:t>
            </a:r>
            <a:br>
              <a:rPr sz="3900"/>
            </a:b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des frais de scolarité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2057400"/>
            <a:ext cx="7561440" cy="43243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2f8b2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Les étudiants profitent d’un gel des frais depuis plus de 10 a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2f8b2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Le gel des frais de scolarité est une subvention aux rich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2f8b2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Les pauvres ont autant de chances d’aller à l’université que les rich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2f8b2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L’éducation co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ûte cher à la société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5445000" y="12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21D2D2-4491-45D2-8404-939D0D13ABC3}" type="slidenum">
              <a:t>5</a:t>
            </a:fld>
          </a:p>
        </p:txBody>
      </p:sp>
    </p:spTree>
  </p:cSld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2656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2656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7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3192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 pays, le Québec 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s frais de scolarité les plus faible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 taux d’endettement étudiant le plus faible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 taux de scolarisation le plus élevé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8" name=""/>
          <p:cNvSpPr/>
          <p:nvPr/>
        </p:nvSpPr>
        <p:spPr>
          <a:xfrm>
            <a:off x="762120" y="5486400"/>
            <a:ext cx="7543800" cy="642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urquoi vouloir change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"/>
          <p:cNvSpPr/>
          <p:nvPr/>
        </p:nvSpPr>
        <p:spPr>
          <a:xfrm>
            <a:off x="914400" y="228600"/>
            <a:ext cx="7543800" cy="11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900" spc="-1" strike="noStrike">
                <a:solidFill>
                  <a:srgbClr val="2f8b20"/>
                </a:solidFill>
                <a:latin typeface="Verdana"/>
              </a:rPr>
              <a:t>Le modèle québécois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900" spc="-1" strike="noStrike">
                <a:solidFill>
                  <a:srgbClr val="2f8b20"/>
                </a:solidFill>
                <a:latin typeface="Verdana"/>
              </a:rPr>
              <a:t>un succès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0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0AC7B2-655B-40A5-B7A2-159E7F9D2DF3}" type="slidenum">
              <a:t>50</a:t>
            </a:fld>
          </a:p>
        </p:txBody>
      </p:sp>
    </p:spTree>
  </p:cSld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8" dur="1321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3" dur="1321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350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350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2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Un problème réel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53" name="PlaceHolder 2"/>
          <p:cNvSpPr>
            <a:spLocks noGrp="1"/>
          </p:cNvSpPr>
          <p:nvPr>
            <p:ph/>
          </p:nvPr>
        </p:nvSpPr>
        <p:spPr>
          <a:xfrm>
            <a:off x="684360" y="3123720"/>
            <a:ext cx="7773840" cy="2033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ÉALITÉ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 universités québécoises so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s-financé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4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37C651-354B-417F-BF15-50F64F77AE8E}" type="slidenum">
              <a:t>51</a:t>
            </a:fld>
          </a:p>
        </p:txBody>
      </p:sp>
    </p:spTree>
  </p:cSld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4" dur="1031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5" restart="whenNotActive" nodeType="interactiveSeq" fill="hold">
                <p:stCondLst>
                  <p:cond evt="onClick">
                    <p:tgtEl>
                      <p:spTgt spid="355"/>
                    </p:tgtEl>
                  </p:cond>
                </p:stCondLst>
                <p:childTnLst>
                  <p:par>
                    <p:cTn id="796" fill="hold">
                      <p:stCondLst>
                        <p:cond evt="onClick">
                          <p:tgtEl>
                            <p:spTgt spid="355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9" dur="1031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0" restart="whenNotActive" nodeType="interactiveSeq" fill="hold">
                <p:stCondLst>
                  <p:cond evt="onClick">
                    <p:tgtEl>
                      <p:spTgt spid="354"/>
                    </p:tgtEl>
                  </p:cond>
                </p:stCondLst>
                <p:childTnLst>
                  <p:par>
                    <p:cTn id="801" fill="hold">
                      <p:stCondLst>
                        <p:cond evt="onClick">
                          <p:tgtEl>
                            <p:spTgt spid="354"/>
                          </p:tgtEl>
                        </p:cond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4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Universités sous-financées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57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ur rejoindre le niveau des universités canadiennes, il manqu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00 M$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r année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t argent permettrai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5000"/>
              </a:lnSpc>
              <a:spcBef>
                <a:spcPts val="524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’embauche de nouveaux professeu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5000"/>
              </a:lnSpc>
              <a:spcBef>
                <a:spcPts val="524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 meilleurs laboratoi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5000"/>
              </a:lnSpc>
              <a:spcBef>
                <a:spcPts val="524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s assistants de cours en plus grand nomb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5000"/>
              </a:lnSpc>
              <a:spcBef>
                <a:spcPts val="524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8" name=""/>
          <p:cNvSpPr/>
          <p:nvPr/>
        </p:nvSpPr>
        <p:spPr>
          <a:xfrm>
            <a:off x="609480" y="6521400"/>
            <a:ext cx="69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. Évaluation du MELS et de la CREPUQ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6B1686-E9C6-46BF-9122-E81422ECEE4A}" type="slidenum">
              <a:t>52</a:t>
            </a:fld>
          </a:p>
        </p:txBody>
      </p:sp>
    </p:spTree>
  </p:cSld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0" dur="2173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1" restart="whenNotActive" nodeType="interactiveSeq" fill="hold">
                <p:stCondLst>
                  <p:cond evt="onClick">
                    <p:tgtEl>
                      <p:spTgt spid="360"/>
                    </p:tgtEl>
                  </p:cond>
                </p:stCondLst>
                <p:childTnLst>
                  <p:par>
                    <p:cTn id="812" fill="hold">
                      <p:stCondLst>
                        <p:cond evt="onClick">
                          <p:tgtEl>
                            <p:spTgt spid="360"/>
                          </p:tgtEl>
                        </p:cond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5" dur="2173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359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359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0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900" spc="-1" strike="noStrike">
                <a:solidFill>
                  <a:srgbClr val="2f8b20"/>
                </a:solidFill>
                <a:latin typeface="Verdana"/>
              </a:rPr>
              <a:t>2 pièges - 1 solution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3311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Verdana"/>
              </a:rPr>
              <a:t>2 piè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Dégel par indexation 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frais de scola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Dégel massif des frais 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scola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47960" y="2133360"/>
            <a:ext cx="3733560" cy="3276360"/>
          </a:xfrm>
          <a:prstGeom prst="rect">
            <a:avLst/>
          </a:prstGeom>
          <a:solidFill>
            <a:srgbClr val="ffffff">
              <a:alpha val="40000"/>
            </a:srgbClr>
          </a:solidFill>
          <a:ln w="255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Verdana"/>
              </a:rPr>
              <a:t>1 sol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Gel des frais de scolarit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Réinvestissement public massif en édu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4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EA6318-E991-41C3-A567-638936A92ADB}" type="slidenum">
              <a:t>53</a:t>
            </a:fld>
          </a:p>
        </p:txBody>
      </p:sp>
    </p:spTree>
  </p:cSld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6" dur="2567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365"/>
                    </p:tgtEl>
                  </p:cond>
                </p:stCondLst>
                <p:childTnLst>
                  <p:par>
                    <p:cTn id="828" fill="hold">
                      <p:stCondLst>
                        <p:cond evt="onClick">
                          <p:tgtEl>
                            <p:spTgt spid="365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1" dur="2567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364"/>
                    </p:tgtEl>
                  </p:cond>
                </p:stCondLst>
                <p:childTnLst>
                  <p:par>
                    <p:cTn id="833" fill="hold">
                      <p:stCondLst>
                        <p:cond evt="onClick">
                          <p:tgtEl>
                            <p:spTgt spid="364"/>
                          </p:tgtEl>
                        </p:cond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Qu’est-ce que l’indexation ?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939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l s’agit d’une augmentation des frais de scolarité selon l’indice des prix à la consommation (IPC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8" name=""/>
          <p:cNvSpPr/>
          <p:nvPr/>
        </p:nvSpPr>
        <p:spPr>
          <a:xfrm>
            <a:off x="-304920" y="-1066680"/>
            <a:ext cx="3025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9" name="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3391200" cy="2933640"/>
          </a:xfrm>
          <a:prstGeom prst="rect">
            <a:avLst/>
          </a:prstGeom>
          <a:ln w="0">
            <a:noFill/>
          </a:ln>
        </p:spPr>
      </p:pic>
      <p:sp>
        <p:nvSpPr>
          <p:cNvPr id="370" name=""/>
          <p:cNvSpPr/>
          <p:nvPr/>
        </p:nvSpPr>
        <p:spPr>
          <a:xfrm>
            <a:off x="5105520" y="4191120"/>
            <a:ext cx="2819160" cy="1769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Verdana"/>
              </a:rPr>
              <a:t>La variation de l’IPC correspond à l’inflation, soit la hausse du coût de la vi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"/>
          <p:cNvSpPr/>
          <p:nvPr/>
        </p:nvSpPr>
        <p:spPr>
          <a:xfrm>
            <a:off x="964080" y="4572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IÈ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3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CCEF1-71EA-4ED5-BFC3-C8BEA1CBBBEB}" type="slidenum">
              <a:t>54</a:t>
            </a:fld>
          </a:p>
        </p:txBody>
      </p:sp>
    </p:spTree>
  </p:cSld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2" dur="53160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3" restart="whenNotActive" nodeType="interactiveSeq" fill="hold">
                <p:stCondLst>
                  <p:cond evt="onClick">
                    <p:tgtEl>
                      <p:spTgt spid="373"/>
                    </p:tgtEl>
                  </p:cond>
                </p:stCondLst>
                <p:childTnLst>
                  <p:par>
                    <p:cTn id="844" fill="hold">
                      <p:stCondLst>
                        <p:cond evt="onClick">
                          <p:tgtEl>
                            <p:spTgt spid="373"/>
                          </p:tgtEl>
                        </p:cond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7" dur="53160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8" restart="whenNotActive" nodeType="interactiveSeq" fill="hold">
                <p:stCondLst>
                  <p:cond evt="onClick">
                    <p:tgtEl>
                      <p:spTgt spid="372"/>
                    </p:tgtEl>
                  </p:cond>
                </p:stCondLst>
                <p:childTnLst>
                  <p:par>
                    <p:cTn id="849" fill="hold">
                      <p:stCondLst>
                        <p:cond evt="onClick">
                          <p:tgtEl>
                            <p:spTgt spid="372"/>
                          </p:tgtEl>
                        </p:cond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4" name="PlaceHolder 1"/>
          <p:cNvSpPr>
            <a:spLocks noGrp="1"/>
          </p:cNvSpPr>
          <p:nvPr>
            <p:ph type="title"/>
          </p:nvPr>
        </p:nvSpPr>
        <p:spPr>
          <a:xfrm>
            <a:off x="2666880" y="304920"/>
            <a:ext cx="5639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L’indexation ne</a:t>
            </a:r>
            <a:br>
              <a:rPr sz="3900"/>
            </a:b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règle rien!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75" name=""/>
          <p:cNvSpPr/>
          <p:nvPr/>
        </p:nvSpPr>
        <p:spPr>
          <a:xfrm>
            <a:off x="468360" y="6583320"/>
            <a:ext cx="795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 : Ratel, Jean-Luc, 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Qu’en est-il de l’indexation des droits de scolarité?,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CADEUL, 200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6" name=""/>
          <p:cNvGraphicFramePr/>
          <p:nvPr/>
        </p:nvGraphicFramePr>
        <p:xfrm>
          <a:off x="838080" y="2514600"/>
          <a:ext cx="7467840" cy="1933560"/>
        </p:xfrm>
        <a:graphic>
          <a:graphicData uri="http://schemas.openxmlformats.org/drawingml/2006/table">
            <a:tbl>
              <a:tblPr/>
              <a:tblGrid>
                <a:gridCol w="3581640"/>
                <a:gridCol w="3886200"/>
              </a:tblGrid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Apport de l’indexation 2007-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Besoin annuel des universi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4,6 millions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400 millions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7" name=""/>
          <p:cNvSpPr/>
          <p:nvPr/>
        </p:nvSpPr>
        <p:spPr>
          <a:xfrm>
            <a:off x="914400" y="5029200"/>
            <a:ext cx="7315200" cy="9471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besoins doivent être comblés par un financement public majeur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8" name=""/>
          <p:cNvSpPr/>
          <p:nvPr/>
        </p:nvSpPr>
        <p:spPr>
          <a:xfrm>
            <a:off x="838080" y="533520"/>
            <a:ext cx="20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IÈ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0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E05074-FACF-4BAF-9FEC-15F5EDF0088B}" type="slidenum">
              <a:t>55</a:t>
            </a:fld>
          </a:p>
        </p:txBody>
      </p:sp>
    </p:spTree>
  </p:cSld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8" dur="2823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380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380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3" dur="2823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9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9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title"/>
          </p:nvPr>
        </p:nvSpPr>
        <p:spPr>
          <a:xfrm>
            <a:off x="2437920" y="304920"/>
            <a:ext cx="5867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L’indexation aggrave la situation!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82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7772400" cy="3961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’indexation des frais aggrave les problèmes d’accessibilité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urtout chez les plus pauvr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dett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écroch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Épuis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uisque les revenus des étudiants sont en baiss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la part de leur maigre budget qu’ils affectent aux études augment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3" name=""/>
          <p:cNvSpPr/>
          <p:nvPr/>
        </p:nvSpPr>
        <p:spPr>
          <a:xfrm>
            <a:off x="1046880" y="6573960"/>
            <a:ext cx="6683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. Une diminution de 17 % entre 1994 et 2001.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Source: Aide financière aux étud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964080" y="457200"/>
            <a:ext cx="13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IÈ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5562720" y="342900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s problèmes qui existent déjà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6" name=""/>
          <p:cNvSpPr/>
          <p:nvPr/>
        </p:nvSpPr>
        <p:spPr>
          <a:xfrm>
            <a:off x="4191120" y="3733920"/>
            <a:ext cx="990360" cy="0"/>
          </a:xfrm>
          <a:prstGeom prst="line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7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B350F4-BECF-4828-86A8-818037534237}" type="slidenum">
              <a:t>56</a:t>
            </a:fld>
          </a:p>
        </p:txBody>
      </p:sp>
    </p:spTree>
  </p:cSld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4" dur="22100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388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388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9" dur="22100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evt="onClick">
                    <p:tgtEl>
                      <p:spTgt spid="387"/>
                    </p:tgtEl>
                  </p:cond>
                </p:stCondLst>
                <p:childTnLst>
                  <p:par>
                    <p:cTn id="881" fill="hold">
                      <p:stCondLst>
                        <p:cond evt="onClick">
                          <p:tgtEl>
                            <p:spTgt spid="387"/>
                          </p:tgtEl>
                        </p:cond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4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9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8b20"/>
                </a:solidFill>
                <a:latin typeface="Verdana"/>
              </a:rPr>
              <a:t>Le dégel des frais de scolarité: une erreur!</a:t>
            </a:r>
            <a:endParaRPr b="0" lang="en-US" sz="40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90" name=""/>
          <p:cNvSpPr/>
          <p:nvPr/>
        </p:nvSpPr>
        <p:spPr>
          <a:xfrm>
            <a:off x="838080" y="380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IÈG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02560" cy="1528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 dégel serait une catastrophe pour l’endettement étudiant et la persévérance scolai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2" name=""/>
          <p:cNvSpPr/>
          <p:nvPr/>
        </p:nvSpPr>
        <p:spPr>
          <a:xfrm>
            <a:off x="838080" y="4038480"/>
            <a:ext cx="3382920" cy="1923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er pour le dégel des frais de scolarité, c’est opter pour un systèm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eu accessi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où la capacité financière des individus pr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3" name="" descr=""/>
          <p:cNvPicPr/>
          <p:nvPr/>
        </p:nvPicPr>
        <p:blipFill>
          <a:blip r:embed="rId2"/>
          <a:stretch/>
        </p:blipFill>
        <p:spPr>
          <a:xfrm>
            <a:off x="4284720" y="4365720"/>
            <a:ext cx="4174920" cy="1141200"/>
          </a:xfrm>
          <a:prstGeom prst="rect">
            <a:avLst/>
          </a:prstGeom>
          <a:ln w="0">
            <a:noFill/>
          </a:ln>
        </p:spPr>
      </p:pic>
      <p:sp>
        <p:nvSpPr>
          <p:cNvPr id="394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D3627-4B89-44E2-AF59-D19A31991E1D}" type="slidenum">
              <a:t>57</a:t>
            </a:fld>
          </a:p>
        </p:txBody>
      </p:sp>
    </p:spTree>
  </p:cSld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0" dur="2544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restart="whenNotActive" nodeType="interactiveSeq" fill="hold">
                <p:stCondLst>
                  <p:cond evt="onClick">
                    <p:tgtEl>
                      <p:spTgt spid="395"/>
                    </p:tgtEl>
                  </p:cond>
                </p:stCondLst>
                <p:childTnLst>
                  <p:par>
                    <p:cTn id="892" fill="hold">
                      <p:stCondLst>
                        <p:cond evt="onClick">
                          <p:tgtEl>
                            <p:spTgt spid="395"/>
                          </p:tgtEl>
                        </p:cond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5" dur="2544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394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394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0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L’aide financière…</a:t>
            </a:r>
            <a:br>
              <a:rPr sz="3900"/>
            </a:b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un palliatif ?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295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’AFÉ : truffée d’iniquité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ertains ne reçoivent rien de leurs parents, bien que l’AFÉ calcule la contribution parentale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8" name=""/>
          <p:cNvSpPr/>
          <p:nvPr/>
        </p:nvSpPr>
        <p:spPr>
          <a:xfrm>
            <a:off x="611280" y="6400800"/>
            <a:ext cx="770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 : Aide financière aux études,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Enquête sur les conditions de vie des étudiants (2002)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2003, p.162 et Aide financière aux études,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tatistiques 2001-2002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p.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997200" y="457200"/>
            <a:ext cx="9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AFÉ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31120" y="5295960"/>
            <a:ext cx="6732360" cy="414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100" spc="-1" strike="noStrike">
                <a:solidFill>
                  <a:srgbClr val="000000"/>
                </a:solidFill>
                <a:latin typeface="Verdana"/>
              </a:rPr>
              <a:t>Ces étudiants seront très pénalisés par un dégel 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2590920" y="3429000"/>
            <a:ext cx="5562360" cy="1434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Verdana"/>
              </a:rPr>
              <a:t>En 2002, 27,5 % des jeunes étant supposés recevoir une contribution de leurs parents (selon l’AFÉ) n’ont en réalité rien reçu d’eu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19320" y="4038480"/>
            <a:ext cx="990360" cy="0"/>
          </a:xfrm>
          <a:prstGeom prst="line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6DB67A-DE23-4B69-84BC-9240703618AB}" type="slidenum">
              <a:t>58</a:t>
            </a:fld>
          </a:p>
        </p:txBody>
      </p:sp>
    </p:spTree>
  </p:cSld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6" dur="4208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404"/>
                    </p:tgtEl>
                  </p:cond>
                </p:stCondLst>
                <p:childTnLst>
                  <p:par>
                    <p:cTn id="908" fill="hold">
                      <p:stCondLst>
                        <p:cond evt="onClick">
                          <p:tgtEl>
                            <p:spTgt spid="404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1" dur="4208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403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403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1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2743200" y="30492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L’aide financière…</a:t>
            </a:r>
            <a:br>
              <a:rPr sz="3900"/>
            </a:b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un palliatif ?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Verdana"/>
              </a:rPr>
              <a:t>Pr</a:t>
            </a:r>
            <a:r>
              <a:rPr b="1" lang="fr-CA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êts d’étude (AFÉ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DETTEMENT</a:t>
            </a:r>
            <a:r>
              <a:rPr b="1" lang="fr-CA" sz="2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..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Endettement des futurs jeunes parents, qui tarderont à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fonder une famil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.. Endettement des jeunes qui tarderont à se démarrer u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entrepri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..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Verdana"/>
              </a:rPr>
              <a:t>L’AFÉ n’est pas un objectif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Verdana"/>
              </a:rPr>
              <a:t>c’est un remède 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7" name=""/>
          <p:cNvSpPr/>
          <p:nvPr/>
        </p:nvSpPr>
        <p:spPr>
          <a:xfrm>
            <a:off x="1398600" y="39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997200" y="457200"/>
            <a:ext cx="9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AFÉ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2"/>
          <a:stretch/>
        </p:blipFill>
        <p:spPr>
          <a:xfrm>
            <a:off x="6877080" y="2060640"/>
            <a:ext cx="1619280" cy="13906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0EABC2-09A2-4F2C-9124-E9272A367CD8}" type="slidenum">
              <a:t>59</a:t>
            </a:fld>
          </a:p>
        </p:txBody>
      </p:sp>
    </p:spTree>
  </p:cSld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2" dur="45610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411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411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7" dur="45610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8" restart="whenNotActive" nodeType="interactiveSeq" fill="hold">
                <p:stCondLst>
                  <p:cond evt="onClick">
                    <p:tgtEl>
                      <p:spTgt spid="410"/>
                    </p:tgtEl>
                  </p:cond>
                </p:stCondLst>
                <p:childTnLst>
                  <p:par>
                    <p:cTn id="929" fill="hold">
                      <p:stCondLst>
                        <p:cond evt="onClick">
                          <p:tgtEl>
                            <p:spTgt spid="410"/>
                          </p:tgtEl>
                        </p:cond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3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467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Les mythes au sujet</a:t>
            </a:r>
            <a:br>
              <a:rPr sz="3900"/>
            </a:b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des frais de scolarité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9000"/>
            <a:ext cx="7696080" cy="4680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8b2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 frais de scolarité n’influencent pas le choix d’entreprendre ou de poursuivre des études universitai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2f8b2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 jeunes pourraient travailler plus pou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yer leurs étud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2f8b20"/>
                </a:solidFill>
                <a:latin typeface="Verdana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 étudiants ont suffisamment d’arge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ur se payer des voitu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2f8b20"/>
                </a:solidFill>
                <a:latin typeface="Verdana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faut rejoindre la moyenne canadienn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 frais de scolarité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33AE36-4C5A-404D-866B-EEC0F140B90D}" type="slidenum">
              <a:t>6</a:t>
            </a:fld>
          </a:p>
        </p:txBody>
      </p:sp>
    </p:spTree>
  </p:cSld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6175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6175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2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772400" cy="3384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érêts sur les prêts de l’AFÉ payés par le gouvernement aux banques de 1997-1998 à 2003-2004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97 millions $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des profits des banques, 2006 :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0,43 milliards $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3" name=""/>
          <p:cNvSpPr/>
          <p:nvPr/>
        </p:nvSpPr>
        <p:spPr>
          <a:xfrm>
            <a:off x="468360" y="5853240"/>
            <a:ext cx="80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s : Aide financière aux études,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Rapports annuel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1997-1998, 1998-1999 et 2003, sections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es Prêts et leur remboursemen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Profit des banques calculées avec les rapports annuels des institutions financières, disponibles au www.desjardins.com, www.bnc.ca, www.banqueroyale.com, www.bmo.com, www.cibc.com, www.laurentienne.com, www.td.com, www.banquescotia.com et www.hsbc.ca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PlaceHolder 2"/>
          <p:cNvSpPr>
            <a:spLocks noGrp="1"/>
          </p:cNvSpPr>
          <p:nvPr>
            <p:ph type="title"/>
          </p:nvPr>
        </p:nvSpPr>
        <p:spPr>
          <a:xfrm>
            <a:off x="2050560" y="189000"/>
            <a:ext cx="68202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8b20"/>
                </a:solidFill>
                <a:latin typeface="Verdana"/>
              </a:rPr>
              <a:t>L’AFÉ : subvention aux banques ?</a:t>
            </a:r>
            <a:endParaRPr b="0" lang="en-US" sz="40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415" name=""/>
          <p:cNvSpPr/>
          <p:nvPr/>
        </p:nvSpPr>
        <p:spPr>
          <a:xfrm>
            <a:off x="997200" y="457200"/>
            <a:ext cx="9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AFÉ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28B130-05B1-4CAE-B592-99DAD198A52F}" type="slidenum">
              <a:t>60</a:t>
            </a:fld>
          </a:p>
        </p:txBody>
      </p:sp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8" dur="3988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9" restart="whenNotActive" nodeType="interactiveSeq" fill="hold">
                <p:stCondLst>
                  <p:cond evt="onClick">
                    <p:tgtEl>
                      <p:spTgt spid="417"/>
                    </p:tgtEl>
                  </p:cond>
                </p:stCondLst>
                <p:childTnLst>
                  <p:par>
                    <p:cTn id="940" fill="hold">
                      <p:stCondLst>
                        <p:cond evt="onClick">
                          <p:tgtEl>
                            <p:spTgt spid="417"/>
                          </p:tgtEl>
                        </p:cond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3" dur="3988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416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416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4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8" name="PlaceHolder 1"/>
          <p:cNvSpPr>
            <a:spLocks noGrp="1"/>
          </p:cNvSpPr>
          <p:nvPr>
            <p:ph type="title"/>
          </p:nvPr>
        </p:nvSpPr>
        <p:spPr>
          <a:xfrm>
            <a:off x="2971440" y="304920"/>
            <a:ext cx="5334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Réinvestissement public massif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419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0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Verdana"/>
              </a:rPr>
              <a:t>L’ARGENT EXISTE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Verdana"/>
              </a:rPr>
              <a:t>Surplus fédéral 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</a:rPr>
              <a:t>: plus de 100 G $ depuis 1994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Verdana"/>
              </a:rPr>
              <a:t>Déséquilibre fiscal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</a:rPr>
              <a:t> : transferts fédéraux de 4,9 G $ par année du fédéral destinés aux provin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Verdana"/>
              </a:rPr>
              <a:t>Rapatriement du point de taxe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 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</a:rPr>
              <a:t>La baisse de TPS a fait perdre 220 M $ au provincial, car la TVQ s’applique aussi sur la TPS. Le Québec aurait pu rapatrier ce point de taxe. </a:t>
            </a:r>
            <a:r>
              <a:rPr b="0" lang="fr-CA" sz="1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0" name=""/>
          <p:cNvSpPr/>
          <p:nvPr/>
        </p:nvSpPr>
        <p:spPr>
          <a:xfrm>
            <a:off x="611280" y="6400800"/>
            <a:ext cx="7993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. Radio-Canada, </a:t>
            </a:r>
            <a:r>
              <a:rPr b="0" lang="en-US" sz="1200" spc="-1" strike="noStrike" u="sng">
                <a:solidFill>
                  <a:srgbClr val="5da31e"/>
                </a:solidFill>
                <a:uFillTx/>
                <a:latin typeface="Verdana"/>
                <a:hlinkClick r:id="rId2"/>
              </a:rPr>
              <a:t>http://www.radiocanada.ca/nouvelles/Politique/ 2006/01/25/002-audet-tps-rb.s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020600" y="45720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3A879-1E11-4C7C-A6AA-309440F16700}" type="slidenum">
              <a:t>61</a:t>
            </a:fld>
          </a:p>
        </p:txBody>
      </p:sp>
    </p:spTree>
  </p:cSld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4" dur="6972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423"/>
                    </p:tgtEl>
                  </p:cond>
                </p:stCondLst>
                <p:childTnLst>
                  <p:par>
                    <p:cTn id="956" fill="hold">
                      <p:stCondLst>
                        <p:cond evt="onClick">
                          <p:tgtEl>
                            <p:spTgt spid="423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9" dur="6972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0" restart="whenNotActive" nodeType="interactiveSeq" fill="hold">
                <p:stCondLst>
                  <p:cond evt="onClick">
                    <p:tgtEl>
                      <p:spTgt spid="422"/>
                    </p:tgtEl>
                  </p:cond>
                </p:stCondLst>
                <p:childTnLst>
                  <p:par>
                    <p:cTn id="961" fill="hold">
                      <p:stCondLst>
                        <p:cond evt="onClick">
                          <p:tgtEl>
                            <p:spTgt spid="422"/>
                          </p:tgtEl>
                        </p:cond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4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3124080" y="304920"/>
            <a:ext cx="5181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Réinvestissement public massif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42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2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Verdana"/>
              </a:rPr>
              <a:t>UNE QUESTION DE CHOIX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Décembre 200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Le Québec a offert </a:t>
            </a: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906 M$</a:t>
            </a: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 / an à ses 8000 médecins spécialistes : plus de deux fois ce qu’il faut pour régler le sous-financement du réseau universitaire ! </a:t>
            </a:r>
            <a:r>
              <a:rPr b="0" lang="fr-CA" sz="20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Février 200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Le Parti libéral du Québec propo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Réduction de </a:t>
            </a: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750 M $</a:t>
            </a: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 sur 5 ans de la taxe sur le capit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Réduction de </a:t>
            </a: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250 M $</a:t>
            </a: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 par année des imp</a:t>
            </a:r>
            <a:r>
              <a:rPr b="0" lang="fr-CA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ôts </a:t>
            </a: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sur le revenu des particuli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CA" sz="1900" spc="-1" strike="noStrike">
                <a:solidFill>
                  <a:srgbClr val="000000"/>
                </a:solidFill>
                <a:latin typeface="Verdana"/>
              </a:rPr>
              <a:t>Cet argent est indispensable aux projets du Québec !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6" name=""/>
          <p:cNvSpPr/>
          <p:nvPr/>
        </p:nvSpPr>
        <p:spPr>
          <a:xfrm>
            <a:off x="539640" y="6446880"/>
            <a:ext cx="7925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da31e"/>
                </a:solidFill>
                <a:uFillTx/>
                <a:latin typeface="Verdana"/>
                <a:hlinkClick r:id="rId2"/>
              </a:rPr>
              <a:t>1. http://communiques.gouv.qc.ca/gouvqc/communiques/GPQF/Novembre2006/ 26/c871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. Programme électoral libéral 2007, p. 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1173240" y="45720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396464-9E7A-4A6F-96FA-7D9E4DA19066}" type="slidenum">
              <a:t>62</a:t>
            </a:fld>
          </a:p>
        </p:txBody>
      </p:sp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0" dur="4911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1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972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5" dur="4911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428"/>
                    </p:tgtEl>
                  </p:cond>
                </p:stCondLst>
                <p:childTnLst>
                  <p:par>
                    <p:cTn id="977" fill="hold">
                      <p:stCondLst>
                        <p:cond evt="onClick">
                          <p:tgtEl>
                            <p:spTgt spid="428"/>
                          </p:tgtEl>
                        </p:cond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80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8b20"/>
                </a:solidFill>
                <a:latin typeface="Verdana"/>
              </a:rPr>
              <a:t>Un choix, des valeurs</a:t>
            </a: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 Québec peut se donner des frais de scolarité faib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’est une question de valeu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’équité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 justic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 désir de mettre l’éducation au centre de ses priorités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’est un message encouragea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à envoyer à la jeunesse 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2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967DA7-9F0C-4B8C-87E3-4CC13EB9F863}" type="slidenum">
              <a:t>63</a:t>
            </a:fld>
          </a:p>
        </p:txBody>
      </p:sp>
    </p:spTree>
  </p:cSld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0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6" dur="5005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433"/>
                    </p:tgtEl>
                  </p:cond>
                </p:stCondLst>
                <p:childTnLst>
                  <p:par>
                    <p:cTn id="988" fill="hold">
                      <p:stCondLst>
                        <p:cond evt="onClick">
                          <p:tgtEl>
                            <p:spTgt spid="433"/>
                          </p:tgtEl>
                        </p:cond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1" dur="5005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2" restart="whenNotActive" nodeType="interactiveSeq" fill="hold">
                <p:stCondLst>
                  <p:cond evt="onClick">
                    <p:tgtEl>
                      <p:spTgt spid="432"/>
                    </p:tgtEl>
                  </p:cond>
                </p:stCondLst>
                <p:childTnLst>
                  <p:par>
                    <p:cTn id="993" fill="hold">
                      <p:stCondLst>
                        <p:cond evt="onClick">
                          <p:tgtEl>
                            <p:spTgt spid="432"/>
                          </p:tgtEl>
                        </p:cond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12398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ant tous ces constats, il n’y a aucune raison de vouloir dégeler les frais de scolarité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6" name=""/>
          <p:cNvSpPr/>
          <p:nvPr/>
        </p:nvSpPr>
        <p:spPr>
          <a:xfrm>
            <a:off x="990720" y="4756320"/>
            <a:ext cx="7391160" cy="19580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UNISSONS-NOUS CONTRE TOUTE HAUSSE DE FRAIS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2121120" y="304920"/>
            <a:ext cx="495864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000000"/>
                </a:solidFill>
                <a:latin typeface="Verdana"/>
              </a:rPr>
              <a:t>PRONONCEZ-VOUS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8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695760" cy="2478240"/>
          </a:xfrm>
          <a:prstGeom prst="rect">
            <a:avLst/>
          </a:prstGeom>
          <a:ln w="0">
            <a:noFill/>
          </a:ln>
        </p:spPr>
      </p:pic>
      <p:sp>
        <p:nvSpPr>
          <p:cNvPr id="439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644933-0149-4157-8EF9-286BE72F5812}" type="slidenum">
              <a:t>64</a:t>
            </a:fld>
          </a:p>
        </p:txBody>
      </p:sp>
    </p:spTree>
  </p:cSld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2" dur="46472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440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440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7" dur="46472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439"/>
                    </p:tgtEl>
                  </p:cond>
                </p:stCondLst>
                <p:childTnLst>
                  <p:par>
                    <p:cTn id="1009" fill="hold">
                      <p:stCondLst>
                        <p:cond evt="onClick">
                          <p:tgtEl>
                            <p:spTgt spid="439"/>
                          </p:tgtEl>
                        </p:cond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"/>
          <p:cNvSpPr/>
          <p:nvPr/>
        </p:nvSpPr>
        <p:spPr>
          <a:xfrm>
            <a:off x="1572120" y="258840"/>
            <a:ext cx="599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IDEZ-NOUS À DÉTRUIRE LES MYTHE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PAGEZ CETTE PRÉSENTATIO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42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2781360"/>
            <a:ext cx="2376720" cy="1047600"/>
          </a:xfrm>
          <a:prstGeom prst="rect">
            <a:avLst/>
          </a:prstGeom>
          <a:ln w="0">
            <a:noFill/>
          </a:ln>
        </p:spPr>
      </p:pic>
      <p:pic>
        <p:nvPicPr>
          <p:cNvPr id="443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365720"/>
            <a:ext cx="2879640" cy="780840"/>
          </a:xfrm>
          <a:prstGeom prst="rect">
            <a:avLst/>
          </a:prstGeom>
          <a:ln w="0">
            <a:noFill/>
          </a:ln>
        </p:spPr>
      </p:pic>
      <p:sp>
        <p:nvSpPr>
          <p:cNvPr id="444" name=""/>
          <p:cNvSpPr/>
          <p:nvPr/>
        </p:nvSpPr>
        <p:spPr>
          <a:xfrm>
            <a:off x="1332000" y="2060640"/>
            <a:ext cx="2808360" cy="459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ponible su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"/>
          <p:cNvSpPr/>
          <p:nvPr/>
        </p:nvSpPr>
        <p:spPr>
          <a:xfrm>
            <a:off x="4643280" y="5373720"/>
            <a:ext cx="3384720" cy="1342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ous pouvez cliquer sur ces images. Sinon, visitez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 u="sng">
                <a:solidFill>
                  <a:srgbClr val="5da31e"/>
                </a:solidFill>
                <a:uFillTx/>
                <a:latin typeface="Verdana"/>
                <a:hlinkClick r:id="rId6"/>
              </a:rPr>
              <a:t>www.agoraetudiante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 u="sng">
                <a:solidFill>
                  <a:srgbClr val="5da31e"/>
                </a:solidFill>
                <a:uFillTx/>
                <a:latin typeface="Verdana"/>
                <a:hlinkClick r:id="rId7"/>
              </a:rPr>
              <a:t>www.cadeu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E5C83-674B-4EDD-AD19-2BB48B58EACC}" type="slidenum">
              <a:t>65</a:t>
            </a:fld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2971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2f8b20"/>
                </a:solidFill>
                <a:latin typeface="Verdana"/>
              </a:rPr>
              <a:t>Les étudiants profitent d’un gel des frais depuis plus de 10 ans.</a:t>
            </a:r>
            <a:endParaRPr b="0" lang="en-US" sz="36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3517560" y="293760"/>
            <a:ext cx="236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MYTH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3406680" cy="2284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050456-164F-475E-B98F-28854D53384B}" type="slidenum">
              <a:t>7</a:t>
            </a:fld>
          </a:p>
        </p:txBody>
      </p:sp>
    </p:spTree>
  </p:cSld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30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530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Le gel est une illusion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lgré le décret du gel des frais de scolarité en 1994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 facture refilée aux étudiants n’a cessé d’augmen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imposant aux étudiants de nouveaux frais dits « accessoires » (frais technologiques, frais de gestion, etc.)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s administrations universitaires contournent l’esprit du g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 frais de scolarité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2872440" y="3253320"/>
            <a:ext cx="61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the 1 : </a:t>
            </a:r>
            <a:r>
              <a:rPr b="0" lang="en-US" sz="1800" spc="-1" strike="noStrike">
                <a:solidFill>
                  <a:srgbClr val="2f8b20"/>
                </a:solidFill>
                <a:latin typeface="Verdana"/>
              </a:rPr>
              <a:t>Un gel des frais depuis plus de 10 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05D92-13D5-4F90-AF47-97E5F730264C}" type="slidenum">
              <a:t>8</a:t>
            </a:fld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2962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2962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Le gel est une illusion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-2945520" y="3174120"/>
            <a:ext cx="63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the 1 : </a:t>
            </a:r>
            <a:r>
              <a:rPr b="0" lang="en-US" sz="1800" spc="-1" strike="noStrike">
                <a:solidFill>
                  <a:srgbClr val="2f8b20"/>
                </a:solidFill>
                <a:latin typeface="Verdana"/>
              </a:rPr>
              <a:t>Un gel des frais depuis plus de 10 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219320" y="1828800"/>
            <a:ext cx="6781680" cy="4648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D6F39-F368-450D-A825-C1934F4D771D}" type="slidenum">
              <a:t>9</a:t>
            </a:fld>
          </a:p>
        </p:txBody>
      </p:sp>
    </p:spTree>
  </p:cSld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867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867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4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7:22:08Z</dcterms:created>
  <dc:creator>Nicolas Fontaine</dc:creator>
  <dc:description/>
  <dc:language>en-US</dc:language>
  <cp:lastModifiedBy>Nicolas Fontaine</cp:lastModifiedBy>
  <dcterms:modified xsi:type="dcterms:W3CDTF">2007-03-01T19:39:53Z</dcterms:modified>
  <cp:revision>149</cp:revision>
  <dc:subject/>
  <dc:title>Dégeler - Le Québec à la dérive</dc:title>
</cp:coreProperties>
</file>